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9AC-626B-4D74-9B00-E34AE73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D92-AAAE-4C91-8B70-7490165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10A-C8F4-4143-8F31-7C507C41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2BF-9F88-421B-A807-BB5010C1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585-0312-4E0E-83A2-19194951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AC5-B920-4897-A840-C554FA6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8A47-DE28-49BF-A288-A2889C49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9CD-1761-44E8-AC71-929691B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285D-6ED2-4BDF-90F8-996AEFE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948C-CC4E-4141-9418-F2269A2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6CA0-081C-43FA-BA75-0046486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169-AF25-4302-9405-D2447DB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7A43-5381-4741-B5BE-1944CDF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4CEA-6B89-4CB6-9B16-790D0D3B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ACF-6AD5-44F7-BCDF-FCB736C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F0A-C0F2-438C-A2F6-A8124BFE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4323-EB6E-4DA6-BBE6-88082C7F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191-4466-4EAE-8374-64E462B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D0-8752-45BC-94B0-CD3F35A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F24-4CC8-4AED-A532-255D576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4F8-B949-40EE-A24F-AB0F908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9B4-5015-4633-8453-D1CED07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E1A-733C-41CF-AAC6-9F43154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0D1-189E-4D6D-8485-A0BC2ED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68E8-221E-4833-82A2-5A6524EB0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3E41-E3AA-40D1-A58E-627B8332D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andwriting: 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ration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33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ered curves for handwrit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writing data have both X and Y dire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gister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tangential accelerat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A(t) = [X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Y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eaks more cleanly aligned after reg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3600360" cy="2776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4360" y="4081320"/>
            <a:ext cx="3600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imagine a differential equation for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964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irst look at the X-coordinate – the other two are analog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lates the physics of the pen movement, written in a standard differential equation templa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jerk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acceleration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velocity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coefficients, which describe relationships among 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intercep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velocity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acceleration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700280"/>
            <a:ext cx="39592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inear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nalogy to linear reg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Jerk is respon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cceleration and velocity are predic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 difference is that response and predictors are all estimated from sam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s through Principal Differential Analysis (P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907920"/>
          <a:ext cx="8353440" cy="5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Principal Differential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 functions a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and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 in the linear differential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find good estimates of the derivatives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 and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imilar to linear regression:  Find coefficients that minim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do we do thi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76360" y="2924280"/>
          <a:ext cx="5905440" cy="47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924280"/>
                    <a:ext cx="59054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16360" y="4653000"/>
          <a:ext cx="590364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653000"/>
                    <a:ext cx="5903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 we do P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regularization again to balance goa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the estimated weight functions to be close to the “true”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smooth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in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mbda is smoothing par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= 0:  weight functions r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infinity: weight functions go to 0 (differential operator no different than mth deriva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87640" y="3573360"/>
          <a:ext cx="403848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3573360"/>
                    <a:ext cx="4038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Estimated coefficien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95640" y="1980720"/>
            <a:ext cx="30970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2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orizontal oscillation once every .2 sec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econd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around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onential growth or decay (none on average he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04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Checking adequacy of f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995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sidual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mall relative to third deriv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centrated around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goodness of fit (proportion of variability explained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-coordinate: 0.9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Y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46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use this differential equation to identify writer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wo writers: JR and C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0 replications e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stimate linear differential equation for each wri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pply each estimated equation to self and to 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egression analogy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uild an equation on one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redict the responses for new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ompare fitted values to actual values (residual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6381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x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Y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84720" y="333360"/>
            <a:ext cx="3059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inted the letters “fda” by hand 20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ptotrak system recorded positions of pen, 200 times per seco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 (left to righ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Y (front to bac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Z (up and down, verticall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re are different rates of printing, even for same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5761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Z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ntinuous time reg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ifferential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data in three dimen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y study time records of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raud detection:  handwriting is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usually only see static images – but what about our time-signature?  Are our writing dynamics uniqu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prepare the data for analysi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Timing of letters is different for each re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nd times” are different than “clock time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Amplitud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shap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Phas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tim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oth are important components of functional da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transform (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warp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the clock time so that we’re left with only amplitude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959280" cy="270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960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280" y="380520"/>
            <a:ext cx="403236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es a warping function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64000" y="2509920"/>
            <a:ext cx="338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arget function is sin(4pi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ndividual function is running is fast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 time-warping func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032360" cy="311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3747960"/>
            <a:ext cx="4032360" cy="31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867280" y="4797360"/>
          <a:ext cx="1513080" cy="55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797360"/>
                    <a:ext cx="15130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596360" y="5661000"/>
          <a:ext cx="112536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5661000"/>
                    <a:ext cx="11253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’s the process to align our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: Rescale time with a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do this, we need a “target” cur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use a gold-standard curve, or use a mean curve, or it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ime-warping function maps “clock time” to “hand tim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133720"/>
            <a:ext cx="41749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tinuous-Time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First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Need curves to fit in same inter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ach curve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lasts over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o rescale each curve to fit a target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such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0) = 0 (start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=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nd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&gt; 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iff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&gt;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vents occur in same or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econd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Want features of the curves to line u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he curves to differ only in amplit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that minimizes a “misalignment” criter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ood one is M(h) = smallest eigenvalue of [matrix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M(h) is close to zero, the registered curve values plot against the target curve values as a straight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register transformations of the curves, to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Yes!  It’s often better to register the derivatives of the curves than the curves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re distinctive features available to al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metimes closer to the process of intere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8:54:57Z</dcterms:created>
  <dc:creator>nuzzo</dc:creator>
  <dc:description/>
  <dc:language>en-US</dc:language>
  <cp:lastModifiedBy>ramsay</cp:lastModifiedBy>
  <dcterms:modified xsi:type="dcterms:W3CDTF">2004-02-28T01:47:16Z</dcterms:modified>
  <cp:revision>34</cp:revision>
  <dc:subject/>
  <dc:title>Handwriting: Registration </dc:title>
</cp:coreProperties>
</file>