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96E5-6EDD-4082-A4D5-AB3ABEE7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83D6-5982-4FF3-8108-DBD5F13F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A102-2443-446C-9246-4D388C1F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42FF-E293-4564-9540-0F9C9156A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CA31-336D-4B50-9DB4-7DF278615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7C21-143A-41CC-A6E4-E1F0736B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9240-DFA8-4359-8E25-D5CCB754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7821-614E-4EC2-A338-CF884069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AA77-3375-40A7-80F7-B957EB39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0CFA-21B4-43B3-B56A-5FDA7CD3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3499-22EB-407E-A5C7-66703062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C1AE-6570-4199-BB87-2894F93D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845D-80D3-4153-8C7C-BF417FD0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246D-F0C5-4FCB-B1C0-007F573B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81C5-B2E7-4190-99B5-A89E717A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20E1-3D29-46E8-8026-EBF32934B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B95F-D015-4572-AC03-FBC6DF0E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E826-F261-4D2F-95F0-480B77DB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0820-19E9-4EE5-AC36-9876446F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EE74-59D8-42AE-930A-DD8BE2DD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5D4A-9786-4C3E-81C0-2569D92D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393D-2244-4E7F-9C35-F3CF8580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0777-3CAD-49C0-9AD3-4CB471D9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C753-4269-41B0-950C-6A8859C1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FB7D-DFB5-4AD5-A598-EC0BD274AC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3512-FAEA-48D6-9C1B-C8CB5D0AC4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ADHD Reaction Times:</a:t>
            </a:r>
            <a:br>
              <a:rPr sz="4000"/>
            </a:b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Densities, Mixed Effects, and PC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128680" y="1981080"/>
            <a:ext cx="4884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Are there inter-child differences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94560" y="1700280"/>
            <a:ext cx="2449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Examples of four ADHD childre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Dashed line is group density for ADH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Solid line is individual density for chil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Definite child-to-child variability.  Shouldn’t ignore th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60498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How can we estimate the densities and account for individual differences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ccff"/>
                </a:solidFill>
                <a:latin typeface="Tahoma"/>
              </a:rPr>
              <a:t>Transform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firs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Subtract 120 from each reaction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Initial dead period not helpfu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Logarith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Effects are likely multiplicative, not addi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Z = log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(t-12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692360" y="1989000"/>
            <a:ext cx="5472000" cy="825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Functional Mixed Effects Linear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What is our functional mixed effects model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Build mixed effects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Child i; trial j; group 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ijk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= transformed reaction time density (function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k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= typical performance of all children in group k (function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i|k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= individual performance of child i within group k (function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ijk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= leftover variation in density (function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5843520"/>
            <a:ext cx="3097080" cy="111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ijk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k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i|k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+ U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ij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∑ 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i|k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6659640" cy="61185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76720" y="404640"/>
            <a:ext cx="22669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ADHD have greater variability in residua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ADHD have greater mean residuals (952 vs 645 mse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Modality an artifact of instrume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How can we explore variability across subjects within a group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4316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Go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explore how densities change from child to chil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Ide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Principal components (</a:t>
            </a:r>
            <a:r>
              <a:rPr b="0" i="1" lang="en-CA" sz="2000" spc="-1" strike="noStrike">
                <a:solidFill>
                  <a:srgbClr val="ffffff"/>
                </a:solidFill>
                <a:latin typeface="Tahoma"/>
              </a:rPr>
              <a:t>harmonics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i="1" lang="en-C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are like empirical basis functions.  Want to expand our densities with these harmonic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Problem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Hard to ensure that the densities are positiv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Solution: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ccff"/>
                </a:solidFill>
                <a:latin typeface="Tahoma"/>
              </a:rPr>
              <a:t>Transformation!  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Explore the derivatives instead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1476360" y="1413000"/>
            <a:ext cx="5761080" cy="825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Functional Principal Components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48320" y="2065320"/>
            <a:ext cx="403848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What do the harmonics look like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7343640" cy="19814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1280" y="357336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Used weighted fP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minimizes importance of variation when density is smal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Back-transform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to get harmonics in original density sca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Harmonic Interpretation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CA" sz="20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 : More weight on central peak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CA" sz="20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 : More weight on early reaction tim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CA" sz="20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 : Highlights periodic effect from instrumenta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What have we learned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ransform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he functional object can be indirectly related to the data, such as the probability density fun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Functional Linear Mo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Can add random effe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Functional Principal Components Ana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Can be done on a transformation, such as the log density deriv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ADHD:  Attention Deficit (Hyperactive) Disord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4963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DHD kids have difficulty in focusing on task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But true ADHD is rarer than is generally believed, and drug treatments are used much too oft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How can we correctly identify ADHD childr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Reaction Time Experi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17 ADHD child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16 age-matched contro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Warning of cue” appears on computer scre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Delay of about 10 second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Cue actually appea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Measure the time it takes to react to the cu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Repeat and get about 70 reaction times for each chil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Longer reaction times for ADHD than for controls.  But what do they look like?  How to quantif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How do reaction times differ between ADHD and controls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105520" y="1989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ADHD child has many reaction times beyond 1 sec.  Not so for contro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How can we represent histogram as a smooth densit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What are differences in shape, mean, mode, etc., between group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How can we account for child-to-child differences when comparing the group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4537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How can we represent the histogram as a smooth curve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Simple answer:  Find the probability density function using standard metho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roblem with that:  Standard textbook densities don’t capture characteristics li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Initial l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Extreme peak immediately after l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Long right tail with many outli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New answer:  Use flexible modeling of density functions to create a functional data ob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How can we create a functional density object from a histogram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78544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Use tools from befor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ccff"/>
                </a:solidFill>
                <a:latin typeface="Tahoma"/>
              </a:rPr>
              <a:t>Basis expansion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:  linear combination of spl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ccff"/>
                </a:solidFill>
                <a:latin typeface="Tahoma"/>
              </a:rPr>
              <a:t>Roughness Penalty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:  making explicit the competing go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Basis expansion wi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34 B-splines of order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Equally spaced kno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Competing goals 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Fitting density curve exactly to histogr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Wanting curve to be close to a normal dens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What about the constraints of a probability density function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Constraint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P(t) &gt; 0 over interval of interes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Area under the curve is 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New tool:  </a:t>
            </a:r>
            <a:r>
              <a:rPr b="0" lang="en-CA" sz="2800" spc="-1" strike="noStrike">
                <a:solidFill>
                  <a:srgbClr val="00ccff"/>
                </a:solidFill>
                <a:latin typeface="Tahoma"/>
              </a:rPr>
              <a:t>Transformation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For any function W(t), can build a density func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(t) = C exp{W(t)}, for C = appropriate function of 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ransforms estimation problem from constrained p(t) to unconstrained W(t)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Hey, the original data aren’t really functional, are they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Idea again:  </a:t>
            </a:r>
            <a:r>
              <a:rPr b="0" lang="en-CA" sz="3200" spc="-1" strike="noStrike">
                <a:solidFill>
                  <a:srgbClr val="00ccff"/>
                </a:solidFill>
                <a:latin typeface="Tahoma"/>
              </a:rPr>
              <a:t>Transformation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e functional object is really </a:t>
            </a: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indirectly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related to the dat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ata: reaction times t – nonfunct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What we want: reaction time densities p(t) – funct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Related throug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332000" y="5445000"/>
          <a:ext cx="5545080" cy="77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5445000"/>
                    <a:ext cx="554508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What do the group densities look like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508360" y="1557000"/>
            <a:ext cx="3384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efinite shift in mode between group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Bimodality, or even trimodalit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DHD has large shoulder and long tai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But what about individual differences in childr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51134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12:03:31Z</dcterms:created>
  <dc:creator>nuzzo</dc:creator>
  <dc:description/>
  <dc:language>en-US</dc:language>
  <cp:lastModifiedBy>J. O. Ramsay</cp:lastModifiedBy>
  <dcterms:modified xsi:type="dcterms:W3CDTF">2004-02-23T18:27:43Z</dcterms:modified>
  <cp:revision>22</cp:revision>
  <dc:subject/>
  <dc:title>Reaction-Time Distributions</dc:title>
</cp:coreProperties>
</file>