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FB2-2355-468A-8DBA-352F8F4C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E52-E56A-44F5-92C5-843F882F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A48-5418-4B0D-B799-32668740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215-0080-4222-A516-51E90071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738-A548-4844-B47F-A5ACC0C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3D4-4D19-465E-9D56-45D7A45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3AD-48D5-41AB-B3EB-5115208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43E-93C9-4FEE-8BD6-C670B09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8D8-7498-403F-B8E1-9E2B02FA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2B0-8EA2-4BA0-BA41-B89A3F7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C7A-105D-49AF-929D-ECF3145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837-225B-4A4E-A568-988C19E0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162E-8FC5-41BF-9FF5-0E941F87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for functiona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6:06:19Z</dcterms:created>
  <dc:creator>ramsay</dc:creator>
  <dc:description/>
  <dc:language>en-US</dc:language>
  <cp:lastModifiedBy>ramsay</cp:lastModifiedBy>
  <dcterms:modified xsi:type="dcterms:W3CDTF">2004-12-09T16:08:12Z</dcterms:modified>
  <cp:revision>2</cp:revision>
  <dc:subject/>
  <dc:title>Web site for functional data analysis</dc:title>
</cp:coreProperties>
</file>