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9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3.png" ContentType="image/png"/>
  <Override PartName="/ppt/media/image26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A08-1EDF-41D3-8E87-4678BF4A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511-23D4-4604-A34C-612207A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342-37DE-472C-9652-ED5918E0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A58-C6F6-46A0-852C-92303E36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0372-7C95-46CA-8067-C2E02D62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B2EE-702B-4847-A508-EF54F43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610B-AF33-447B-94FB-06B12A2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0D8-C235-4FE7-AB0E-BFD63612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87AD-C1B8-4A37-97D4-74BBDF4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FBC9-7184-45F2-86DF-6E65D7EA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24E3-CDA2-49B6-91E8-B2125A5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05F-B3D5-44B4-8BD1-F8D7C65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037-25C1-4400-BF04-86FE7A2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984F-6A87-4951-9B3B-5564649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C2A0-01F9-4F77-B690-1B2F86A2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FD4-414D-4358-9D69-E2ADA811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A9D5-DA23-4675-B39E-4C266B09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D61-4542-45AF-B067-26094D93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066-1A61-47B0-8243-18B603A2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07F-DACE-4165-859E-083AC7B8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2FF-98F5-42A9-8B41-926D2DCA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33C-4B2B-437A-8D48-CD4FC44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CE1-D6A6-4182-BA60-26451C5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A02-9401-4FCF-A21A-1A55A1C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D30-A713-4890-BD00-2EF8B0848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C0B9-F1AC-4BE0-95BB-FDD1BBAD2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sych.mcgill.ca/misc/fda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Introduction to Functional Data Analy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2979720"/>
          <a:ext cx="4038840" cy="76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79720"/>
                    <a:ext cx="40388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657600" y="2670120"/>
          <a:ext cx="487692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670120"/>
                    <a:ext cx="48769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3855960"/>
          <a:ext cx="7543800" cy="11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55960"/>
                    <a:ext cx="75438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ll use three case studies to see what is meant by functional data, and to consider some important issues in the analysis of functiona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 growth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nondurable goods manufacturing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ty years of Montreal 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rresponding velocities look good, to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is is inevitably involves judg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rules like monoton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49400" y="4248000"/>
            <a:ext cx="90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we have learned from the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ghness penalty methods generally work better than simple basis expan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useful role in defining constrain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 is in 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47920" y="1596960"/>
            <a:ext cx="6324480" cy="5002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asonal trend = data – nonseasonal tren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s are not taken at equally spaced points in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1.52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4 splines look smooth, but their second derivatives are r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2.18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2.07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u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que Aspects of Functional Data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ata are smooth, so we can use derivatives in various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big ro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s in functional data occur over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itself may be an elastic medium, and vary over functional observ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ing out Mo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 (1997, 2004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002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t the FDA website: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psych.mcgill.ca/misc/fda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in Matlab, R and S-PLUS available at ego.psych.mcgill.ca/pub/ram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Jim Ramsay</cp:lastModifiedBy>
  <dcterms:modified xsi:type="dcterms:W3CDTF">2005-08-09T14:44:35Z</dcterms:modified>
  <cp:revision>16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