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30C-7558-4E2E-9576-74DAF760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FCC-36CE-4B6C-9303-1495191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309-8FAB-447D-B494-0F6413C5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27-86D4-4BB5-B95A-44398E1F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0685-5712-4446-85FE-BCA76B93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1FC9-DC63-4521-B67B-C6620340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BBDD-8928-4614-8848-3598EB9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5F7D-CFD7-4EAF-81A2-1B64C6B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07A-F0A3-476B-AD75-F8E45029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512-69E0-4AF9-8091-30B5A9D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219-A0C4-4E90-89CA-AAB6CDB6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C96-71B6-4C7C-A929-66FCA61B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596B-404C-4F58-BA36-CDC5460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DC32-AAE8-44F4-841D-13FA392F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8A48-6B2D-445A-82FB-B505025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93EF-741B-4022-9513-B791846D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0AF1-A774-4822-AF3D-A5F5B1A1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F7B-A022-413D-A89C-E01A54B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D31-E7BC-4B75-A1D3-5AEEBDA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2A5-30F9-446E-8693-BE76CFA2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734-F8E0-429D-AF90-31E2B08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C41-9963-4E34-A6DB-40C522F4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B83-B87F-4E40-B712-4CE22839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B32-D7FA-4A68-8642-A47C9A7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D106-3C40-4B99-888A-CCDFCD2AC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73D-D9F7-4299-BBC0-E2F5BB149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ometrics, Dynamics, and  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m Ramsay and Regina Nuzz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14320" y="2698920"/>
            <a:ext cx="18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view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10800000">
            <a:off x="820800" y="4129560"/>
            <a:ext cx="74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ews expressed here are the author’s and do not always reflect the generally accepted views of many practitioners in the field of Psychometrics.” PH,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unts is problem solving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energy expend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aximum difficulty of problem solvable per unit time,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lighter problems solv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 = d brainergy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s Measure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tests and psychological scales are one of the greatest technological achievements of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s work so well because they are time-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cores reflect brain power rather than brai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s to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about the structure of the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tools to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in the use of these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se requir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s to acquisition of brain power are functions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ifferential Equation in 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s one or more time-derivative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, 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/d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 to 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odel for system dynamics: change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include one or more input or covariate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ergy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put function of time, such as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re constant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&gt;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80960" y="1539720"/>
          <a:ext cx="592308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0960" y="1539720"/>
                    <a:ext cx="59230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600200" y="3505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differential equations don’t have explicit solutions, but this one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brainergy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which will often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2666880"/>
          <a:ext cx="6354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666880"/>
                    <a:ext cx="6354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62120" y="441972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what happens whe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1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aries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step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23880" y="5562720"/>
          <a:ext cx="6354720" cy="108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562720"/>
                    <a:ext cx="63547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slo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goes positive i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controls how fast the system responds to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(t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f the system is a problem solver, t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indicates how quickly the person learn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fter about 4/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ime units, full capacity is reached, and the system is ready for mor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noisy discrete-time data, and want to use them to estimate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ol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equation to fit the data as well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lots of flexibility in choosing a differential equation, and we can’t assume that there is an explicit solution to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methods for analyzing curves or functions a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on theme is using derivatives in various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amsay and Silverman (1997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Ramsay and Silverman (2002) Appli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 ETS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sychometric Fellowship in 19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 great sabbatical year in 19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any sets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o many great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your hospitality to Canada’s g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wo Functional Data Analysis Techniq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-spline Smooth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noisy data and a differential equation, find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will smooth the data and at the same time be nearly a solution to the differential equa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al Differential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imate a linear differential equation for whic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begin with a standard spline smoothing spline to get a preliminary estimat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the noisy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 do a principal differential analysis to get a trial estimate of the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defines how we smooth the data, so we use L-spline smoothing to re-estim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s steps 2 and 3 until convergen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il Refin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data from an oil refinery in Corpus Chri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flux flow) is negatively coupled to the out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ray 47 lev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mooth curve is a solution to the differential equation that best represents this relatio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4512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2440" y="546732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haps this oil refinery is not too sm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situations will call for multiple outputs: Performance with a putter, a driver, and an iron, for example.  Or in algebra and geome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ny situations will involve multiple inputs: Regular classes, tutoring sessions, labs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ology used in these illustrations can handle these situations, at least for linear differential equations.  Nonlinear equations don’t pose any problem in princi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e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ine that the data are golf scores over successive games, and that the input is a set of three equally-spaced lessons from a golf p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slides show three golfers.  Which is a future Tiger Wood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78760" y="594360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lessons are nicely ti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5943600"/>
            <a:ext cx="74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needs to find another spo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324840" cy="528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92280" y="569592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should get lessons more oft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Model Good Enoug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y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o be constant is too simple.  Allowing for fatigue, boredom, and other things requires a funct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 first order equation can’t allow for sudden transient effects like insight.  We may need a differential equation involving higher deriv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e may need nonlinear equations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 Learned at 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s adds only about 2% to the quality of a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s adds only about 2% to the quality of nearly any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ing your way around these buildings is hard … see “brainergy” l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onlinear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9080" y="1600200"/>
          <a:ext cx="684036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9080" y="1600200"/>
                    <a:ext cx="6840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93640" y="3994200"/>
            <a:ext cx="794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mmed output from these two equations will exhibit both the rapid learning and long-term retention  required of human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. R. Wilson (1999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pikes, Decisions and Actions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xford, for many more examples of differential equation models in neuro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ol Theo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who work with input/output systems have developed ways of designing feedback loops to optimize outpu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working with a team of chemical engineers at Queen’s Univer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with ETS would be fun, to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Would the Data Come From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sign customized learning situations, like golf, and track how a learner makes progress as a function of time and inpu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haps video and computer games are nearly what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ready know that people will pay big money to have these experi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corporations with deep pockets pay for this kind of testing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testing would generate performance data over time that depend on one or more functional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ools are available to work with thes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kind of psychometrics looks prom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 Didn’t Learn at Princ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love the latent tra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go beyond snapshot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time as a covari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y Problems with the Latent Trai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widely interpreted as covari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tation that we use, like P(x=1|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, is usually misinterpre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ent trait is not an unobserved covariate … it is not observable, peri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ent trait is not even a variable in the usual sense, since it can be transformed by any strictly increasing smooth function without loss of mea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82680" y="704880"/>
            <a:ext cx="6578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tent trait says that high dimensional data can be represented in a low dimensional spa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, that the probabilities of get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ems correct fall along a spac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ossi, Wang &amp; Ramsay (2002) JEBS for some applications of differential geometry to this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ng as Input/Output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st score is actually a derivative with respect to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 a differential equation model for testing data seems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testing data will be more and more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some new tools for working with dynamic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let’s consider how to use time as a cov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is defined as “the capacity to do wor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etic energy E = 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, and involves mass, distance,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interested in “the capacity to solve problem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involve difficulties (=mass), number of problems (=distance)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call mental energ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ai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21:53Z</dcterms:created>
  <dc:creator>J. O. Ramsay</dc:creator>
  <dc:description/>
  <dc:language>en-US</dc:language>
  <cp:lastModifiedBy>J. O. Ramsay</cp:lastModifiedBy>
  <dcterms:modified xsi:type="dcterms:W3CDTF">2003-02-17T20:28:47Z</dcterms:modified>
  <cp:revision>10</cp:revision>
  <dc:subject/>
  <dc:title>Psychometrics, Dynamics, and  Functional Data Analysis</dc:title>
</cp:coreProperties>
</file>