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6.pct" ContentType="image/x-pict"/>
  <Override PartName="/ppt/media/image9.png" ContentType="image/png"/>
  <Override PartName="/ppt/media/image7.pct" ContentType="image/x-pict"/>
  <Override PartName="/ppt/media/image12.pct" ContentType="image/x-pict"/>
  <Override PartName="/ppt/media/image8.png" ContentType="image/png"/>
  <Override PartName="/ppt/media/image11.png" ContentType="image/png"/>
  <Override PartName="/ppt/media/image13.pct" ContentType="image/x-pict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68E-D781-4068-8C8C-54FAFE39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117-F426-425D-AB52-6037F248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3F1-8534-44B1-9088-6C80F5C3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AF2-09A6-4185-AC2A-F4B13CF2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DD5-3B9B-4565-9369-4AF3AEDC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2D7-EE94-4837-9C34-BF76BDC0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4D8-660E-470F-8919-9250A94C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E49-D3E9-4D35-B509-54DE50EA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3D7-3568-4AE4-8786-20FC1AFC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549-BD87-4912-A8D5-CA80448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5F0-42DC-47B1-BEE7-E4A9D98E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EF9-D975-4399-93E3-DFEC1A95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5108-3D5F-49C5-B6CF-66AC779B7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72360" y="333360"/>
            <a:ext cx="687600" cy="47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68360" y="1341360"/>
            <a:ext cx="813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ng Process Behaviour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m McLel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hemical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en’s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gston,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es.mclellan@chee.queensu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6DE-C36D-42E8-AD4A-B701E3A8F6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s a statistical framework in which the data object is a function of one or more independent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ques have been developed and used for analyzing handwriting, lip motion, horse gait data, analyzing weather data, eye-hand response times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reference – Ramsay and Silverman (1997, 2002) –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DA toolbox for Matlab available free from Jim Ramsay web si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ww.psych.mcgill.ca/faculty/ramsay.ht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atasets consist of collections of functional observ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observations (realizations)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sponse function – e.g., temperature profiles for different runs in a batch reactor – {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),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),…,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)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ation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unctional responses – e.g., time traces for valve input and temperature – {u(t), y(t)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F7F-7874-45B2-9A27-9A11A5C618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DA is a statistical framework for functi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ummary measures defi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aver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var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covariance, sample cross-covariance, sample covarianc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843280" y="3476520"/>
                <a:ext cx="1728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27080" y="4775040"/>
                <a:ext cx="30052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067280" y="3213000"/>
                <a:ext cx="203832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237720" y="4005360"/>
            <a:ext cx="237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that the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result is a </a:t>
            </a:r>
            <a:br>
              <a:rPr sz="1400"/>
            </a:b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function of the independent</a:t>
            </a:r>
            <a:br>
              <a:rPr sz="1400"/>
            </a:b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verage function,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iance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48C-A040-4472-BDDB-791EBA74B2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objects are continuous functions of an independent vari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observations are typically taken at discrete intervals – not necessarily uniform – and functional observations are constructed using appropriate basis functions -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367000" y="2614680"/>
            <a:ext cx="2275920" cy="814320"/>
            <a:chOff x="2367000" y="2614680"/>
            <a:chExt cx="2275920" cy="814320"/>
          </a:xfrm>
        </p:grpSpPr>
        <p:sp>
          <p:nvSpPr>
            <p:cNvPr id="128" name=""/>
            <p:cNvSpPr/>
            <p:nvPr/>
          </p:nvSpPr>
          <p:spPr>
            <a:xfrm>
              <a:off x="2509560" y="278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7000" y="3286080"/>
              <a:ext cx="22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1000" y="2643120"/>
              <a:ext cx="206496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4880" y="2614680"/>
              <a:ext cx="213804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427640" y="292428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148360" y="2924280"/>
                <a:ext cx="4460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V="1">
            <a:off x="4500720" y="2422440"/>
            <a:ext cx="360360" cy="21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83040" y="2349360"/>
                <a:ext cx="4795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509920" y="56610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7000" y="616572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1360" y="5522760"/>
            <a:ext cx="2065320" cy="384480"/>
          </a:xfrm>
          <a:custGeom>
            <a:avLst/>
            <a:gdLst/>
            <a:ahLst/>
            <a:rect l="l" t="t" r="r" b="b"/>
            <a:pathLst>
              <a:path w="1301" h="242">
                <a:moveTo>
                  <a:pt x="0" y="200"/>
                </a:moveTo>
                <a:cubicBezTo>
                  <a:pt x="16" y="170"/>
                  <a:pt x="17" y="137"/>
                  <a:pt x="42" y="112"/>
                </a:cubicBezTo>
                <a:cubicBezTo>
                  <a:pt x="59" y="76"/>
                  <a:pt x="40" y="106"/>
                  <a:pt x="70" y="84"/>
                </a:cubicBezTo>
                <a:cubicBezTo>
                  <a:pt x="129" y="41"/>
                  <a:pt x="162" y="13"/>
                  <a:pt x="237" y="0"/>
                </a:cubicBezTo>
                <a:cubicBezTo>
                  <a:pt x="293" y="9"/>
                  <a:pt x="281" y="30"/>
                  <a:pt x="307" y="70"/>
                </a:cubicBezTo>
                <a:cubicBezTo>
                  <a:pt x="323" y="95"/>
                  <a:pt x="392" y="165"/>
                  <a:pt x="418" y="181"/>
                </a:cubicBezTo>
                <a:cubicBezTo>
                  <a:pt x="428" y="194"/>
                  <a:pt x="445" y="215"/>
                  <a:pt x="460" y="223"/>
                </a:cubicBezTo>
                <a:cubicBezTo>
                  <a:pt x="475" y="231"/>
                  <a:pt x="507" y="242"/>
                  <a:pt x="507" y="242"/>
                </a:cubicBezTo>
                <a:cubicBezTo>
                  <a:pt x="567" y="236"/>
                  <a:pt x="621" y="224"/>
                  <a:pt x="683" y="218"/>
                </a:cubicBezTo>
                <a:cubicBezTo>
                  <a:pt x="703" y="198"/>
                  <a:pt x="723" y="189"/>
                  <a:pt x="748" y="177"/>
                </a:cubicBezTo>
                <a:cubicBezTo>
                  <a:pt x="766" y="149"/>
                  <a:pt x="778" y="159"/>
                  <a:pt x="813" y="163"/>
                </a:cubicBezTo>
                <a:cubicBezTo>
                  <a:pt x="865" y="178"/>
                  <a:pt x="934" y="135"/>
                  <a:pt x="985" y="126"/>
                </a:cubicBezTo>
                <a:cubicBezTo>
                  <a:pt x="1002" y="114"/>
                  <a:pt x="1013" y="102"/>
                  <a:pt x="1032" y="93"/>
                </a:cubicBezTo>
                <a:cubicBezTo>
                  <a:pt x="1080" y="41"/>
                  <a:pt x="1169" y="43"/>
                  <a:pt x="1236" y="33"/>
                </a:cubicBezTo>
                <a:cubicBezTo>
                  <a:pt x="1248" y="36"/>
                  <a:pt x="1261" y="39"/>
                  <a:pt x="1273" y="42"/>
                </a:cubicBezTo>
                <a:cubicBezTo>
                  <a:pt x="1282" y="44"/>
                  <a:pt x="1301" y="47"/>
                  <a:pt x="1301" y="47"/>
                </a:cubicBezTo>
              </a:path>
            </a:pathLst>
          </a:custGeom>
          <a:noFill/>
          <a:ln w="9360">
            <a:solidFill>
              <a:srgbClr val="00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5240" y="5494320"/>
            <a:ext cx="2138040" cy="471600"/>
          </a:xfrm>
          <a:custGeom>
            <a:avLst/>
            <a:gdLst/>
            <a:ahLst/>
            <a:rect l="l" t="t" r="r" b="b"/>
            <a:pathLst>
              <a:path w="1347" h="297">
                <a:moveTo>
                  <a:pt x="0" y="153"/>
                </a:moveTo>
                <a:cubicBezTo>
                  <a:pt x="20" y="173"/>
                  <a:pt x="46" y="205"/>
                  <a:pt x="74" y="213"/>
                </a:cubicBezTo>
                <a:cubicBezTo>
                  <a:pt x="83" y="222"/>
                  <a:pt x="98" y="227"/>
                  <a:pt x="107" y="236"/>
                </a:cubicBezTo>
                <a:cubicBezTo>
                  <a:pt x="122" y="251"/>
                  <a:pt x="128" y="268"/>
                  <a:pt x="144" y="283"/>
                </a:cubicBezTo>
                <a:cubicBezTo>
                  <a:pt x="168" y="274"/>
                  <a:pt x="196" y="235"/>
                  <a:pt x="223" y="218"/>
                </a:cubicBezTo>
                <a:cubicBezTo>
                  <a:pt x="263" y="156"/>
                  <a:pt x="322" y="137"/>
                  <a:pt x="390" y="120"/>
                </a:cubicBezTo>
                <a:cubicBezTo>
                  <a:pt x="421" y="112"/>
                  <a:pt x="442" y="93"/>
                  <a:pt x="473" y="88"/>
                </a:cubicBezTo>
                <a:cubicBezTo>
                  <a:pt x="483" y="81"/>
                  <a:pt x="498" y="78"/>
                  <a:pt x="506" y="69"/>
                </a:cubicBezTo>
                <a:cubicBezTo>
                  <a:pt x="530" y="42"/>
                  <a:pt x="469" y="37"/>
                  <a:pt x="543" y="13"/>
                </a:cubicBezTo>
                <a:cubicBezTo>
                  <a:pt x="580" y="1"/>
                  <a:pt x="561" y="5"/>
                  <a:pt x="599" y="0"/>
                </a:cubicBezTo>
                <a:cubicBezTo>
                  <a:pt x="633" y="6"/>
                  <a:pt x="668" y="7"/>
                  <a:pt x="701" y="18"/>
                </a:cubicBezTo>
                <a:cubicBezTo>
                  <a:pt x="723" y="25"/>
                  <a:pt x="753" y="95"/>
                  <a:pt x="775" y="120"/>
                </a:cubicBezTo>
                <a:cubicBezTo>
                  <a:pt x="798" y="146"/>
                  <a:pt x="820" y="146"/>
                  <a:pt x="845" y="167"/>
                </a:cubicBezTo>
                <a:cubicBezTo>
                  <a:pt x="878" y="195"/>
                  <a:pt x="891" y="213"/>
                  <a:pt x="933" y="222"/>
                </a:cubicBezTo>
                <a:cubicBezTo>
                  <a:pt x="974" y="243"/>
                  <a:pt x="988" y="254"/>
                  <a:pt x="1022" y="288"/>
                </a:cubicBezTo>
                <a:cubicBezTo>
                  <a:pt x="1030" y="296"/>
                  <a:pt x="1054" y="297"/>
                  <a:pt x="1054" y="297"/>
                </a:cubicBezTo>
                <a:cubicBezTo>
                  <a:pt x="1059" y="294"/>
                  <a:pt x="1063" y="290"/>
                  <a:pt x="1068" y="288"/>
                </a:cubicBezTo>
                <a:cubicBezTo>
                  <a:pt x="1074" y="285"/>
                  <a:pt x="1081" y="286"/>
                  <a:pt x="1087" y="283"/>
                </a:cubicBezTo>
                <a:cubicBezTo>
                  <a:pt x="1099" y="277"/>
                  <a:pt x="1108" y="267"/>
                  <a:pt x="1119" y="260"/>
                </a:cubicBezTo>
                <a:cubicBezTo>
                  <a:pt x="1131" y="234"/>
                  <a:pt x="1145" y="223"/>
                  <a:pt x="1170" y="209"/>
                </a:cubicBezTo>
                <a:cubicBezTo>
                  <a:pt x="1178" y="196"/>
                  <a:pt x="1184" y="183"/>
                  <a:pt x="1193" y="171"/>
                </a:cubicBezTo>
                <a:cubicBezTo>
                  <a:pt x="1238" y="113"/>
                  <a:pt x="1256" y="113"/>
                  <a:pt x="1328" y="102"/>
                </a:cubicBezTo>
                <a:cubicBezTo>
                  <a:pt x="1344" y="96"/>
                  <a:pt x="1338" y="101"/>
                  <a:pt x="1347" y="92"/>
                </a:cubicBezTo>
              </a:path>
            </a:pathLst>
          </a:custGeom>
          <a:noFill/>
          <a:ln w="9360">
            <a:solidFill>
              <a:srgbClr val="33cc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558972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550080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51664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60720" y="571824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85468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0920" y="583884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6920" y="5757840"/>
            <a:ext cx="73080" cy="7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5661000"/>
            <a:ext cx="73080" cy="7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554040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573408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580536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16200" y="589428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28880" y="576108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08240" y="56358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52960" y="5533920"/>
            <a:ext cx="72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97320" y="547200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9200" y="54738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564984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17880" y="579420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65560" y="59310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7400" y="57024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268880" y="5086080"/>
            <a:ext cx="287280" cy="43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48320" y="4892760"/>
                <a:ext cx="1647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i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4356000" y="5807160"/>
            <a:ext cx="793800" cy="6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261040" y="5613480"/>
                <a:ext cx="16016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i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65" name=""/>
          <p:cNvGrpSpPr/>
          <p:nvPr/>
        </p:nvGrpSpPr>
        <p:grpSpPr>
          <a:xfrm>
            <a:off x="6804000" y="5037120"/>
            <a:ext cx="1974600" cy="946440"/>
            <a:chOff x="6804000" y="5037120"/>
            <a:chExt cx="1974600" cy="9464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6804000" y="5084640"/>
                  <a:ext cx="36828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7106040" y="5037120"/>
              <a:ext cx="1672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 basis function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.g., splines,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lynomials,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uso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6EA-E03F-477D-AB48-B2E16B8A3A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ories about 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y #1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parameters in differential equation model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incipal Differential Analysis (P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M.Sc. student Andy Poyton, Ph.D student Saeed Varz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ollaboration with Kim McAuley, Jim Ram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2 – Obtaining reactor settings for desired molecular weigh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using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Collaboration with Robin Hutchinson, Hana Sulie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038-0B1C-49E9-A50F-5D04D8622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4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Principal Differential Analysis (PDA) and Why are We Using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 is a technique from Functional Data Analysis (F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 exploits natural smoothness of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analysis using derivatives and rat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PDA have potential for estimating parameters in dynamic model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792-CBBD-410F-8305-0E438BF58A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Differential Equation Models Us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Differential Analysis (P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estimation in fundamental dynamic models is difficult and iterative using traditional techniq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utational effort arises from repeated numerical solution of 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2E0-3A9B-42CF-B259-067B2ACD90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Differential Equation Models Us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Differential Analysis (P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estimation in fundamental dynamic models is difficult and iterative using tradition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utational effort arises from repeated numerical solution of O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1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12b"/>
                </a:solidFill>
                <a:latin typeface="Arial"/>
              </a:rPr>
              <a:t>Principal Differential Analysi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12b"/>
                </a:solidFill>
                <a:latin typeface="Arial"/>
              </a:rPr>
              <a:t>(PDA)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s smoothing of dynamic data to provide time 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verts ODE estimation to an algebraic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iminates need to solve dynamic equations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stimates parameters so that differential equation models are satisfied by observed functional response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943360" y="5438880"/>
                <a:ext cx="2133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y</m:t>
                    </m:r>
                    <m:r>
                      <m:t xml:space="preserve">−</m:t>
                    </m:r>
                    <m:r>
                      <m:t xml:space="preserve">β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2BD-B937-4F91-88A3-597877EE19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any functional data analysis is to obtain a functional representation of th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data are represented as a function of time using basis functions, rather than as a collection of discrete set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24000" y="2725560"/>
            <a:ext cx="8474040" cy="1855800"/>
            <a:chOff x="324000" y="2725560"/>
            <a:chExt cx="8474040" cy="1855800"/>
          </a:xfrm>
        </p:grpSpPr>
        <p:grpSp>
          <p:nvGrpSpPr>
            <p:cNvPr id="180" name=""/>
            <p:cNvGrpSpPr/>
            <p:nvPr/>
          </p:nvGrpSpPr>
          <p:grpSpPr>
            <a:xfrm>
              <a:off x="324000" y="2725560"/>
              <a:ext cx="2598480" cy="1855800"/>
              <a:chOff x="324000" y="2725560"/>
              <a:chExt cx="2598480" cy="1855800"/>
            </a:xfrm>
          </p:grpSpPr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720" y="2739600"/>
                <a:ext cx="25783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324000" y="2725560"/>
                <a:ext cx="2598480" cy="1840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541680" y="3106800"/>
              <a:ext cx="227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oothing using basis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7440" y="3706920"/>
              <a:ext cx="1969920" cy="504720"/>
            </a:xfrm>
            <a:prstGeom prst="rightArrow">
              <a:avLst>
                <a:gd name="adj1" fmla="val 50000"/>
                <a:gd name="adj2" fmla="val 9757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195960" y="2725560"/>
              <a:ext cx="2602080" cy="1852920"/>
              <a:chOff x="6195960" y="2725560"/>
              <a:chExt cx="2602080" cy="1852920"/>
            </a:xfrm>
          </p:grpSpPr>
          <p:pic>
            <p:nvPicPr>
              <p:cNvPr id="1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5960" y="2725560"/>
                <a:ext cx="2591640" cy="18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195960" y="2731680"/>
                <a:ext cx="2602080" cy="1843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B99-AE8A-4248-82BB-3294E757B3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any functional data analysis is to obtain a functional representation of th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data are represented as a function of time using basis functions, rather than as a collection of discrete set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are a set of cur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ne pair of curves for each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objects are linear combinations of known basis functions (e.g., B-spli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" y="2725560"/>
            <a:ext cx="8474040" cy="1855800"/>
            <a:chOff x="324000" y="2725560"/>
            <a:chExt cx="8474040" cy="1855800"/>
          </a:xfrm>
        </p:grpSpPr>
        <p:grpSp>
          <p:nvGrpSpPr>
            <p:cNvPr id="191" name=""/>
            <p:cNvGrpSpPr/>
            <p:nvPr/>
          </p:nvGrpSpPr>
          <p:grpSpPr>
            <a:xfrm>
              <a:off x="324000" y="2725560"/>
              <a:ext cx="2598480" cy="1855800"/>
              <a:chOff x="324000" y="2725560"/>
              <a:chExt cx="2598480" cy="185580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720" y="2739600"/>
                <a:ext cx="25783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24000" y="2725560"/>
                <a:ext cx="2598480" cy="1840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541680" y="3106800"/>
              <a:ext cx="227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oothing using basis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27440" y="3706920"/>
              <a:ext cx="1969920" cy="504720"/>
            </a:xfrm>
            <a:prstGeom prst="rightArrow">
              <a:avLst>
                <a:gd name="adj1" fmla="val 50000"/>
                <a:gd name="adj2" fmla="val 9757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195960" y="2725560"/>
              <a:ext cx="2602080" cy="1852920"/>
              <a:chOff x="6195960" y="2725560"/>
              <a:chExt cx="2602080" cy="18529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5960" y="2725560"/>
                <a:ext cx="2591640" cy="18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6195960" y="2731680"/>
                <a:ext cx="2602080" cy="1843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773680" y="4941720"/>
                <a:ext cx="1606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294080" y="5661000"/>
                <a:ext cx="2293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C83-8106-40A3-9B44-42BE51AF2F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any functional data analysis is to obtain a functional representation of th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data are represented as a function of time using basis functions, rather than as a collection of discrete set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are a set of cur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ne pair of curves for each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objects are linear combinations of known basis functions (e.g., B-spli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24000" y="2725560"/>
            <a:ext cx="8474040" cy="1855800"/>
            <a:chOff x="324000" y="2725560"/>
            <a:chExt cx="8474040" cy="1855800"/>
          </a:xfrm>
        </p:grpSpPr>
        <p:grpSp>
          <p:nvGrpSpPr>
            <p:cNvPr id="204" name=""/>
            <p:cNvGrpSpPr/>
            <p:nvPr/>
          </p:nvGrpSpPr>
          <p:grpSpPr>
            <a:xfrm>
              <a:off x="324000" y="2725560"/>
              <a:ext cx="2598480" cy="1855800"/>
              <a:chOff x="324000" y="2725560"/>
              <a:chExt cx="2598480" cy="185580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720" y="2739600"/>
                <a:ext cx="25783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324000" y="2725560"/>
                <a:ext cx="2598480" cy="1840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541680" y="3106800"/>
              <a:ext cx="227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oothing using basis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27440" y="3706920"/>
              <a:ext cx="1969920" cy="504720"/>
            </a:xfrm>
            <a:prstGeom prst="rightArrow">
              <a:avLst>
                <a:gd name="adj1" fmla="val 50000"/>
                <a:gd name="adj2" fmla="val 9757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195960" y="2725560"/>
              <a:ext cx="2602080" cy="1852920"/>
              <a:chOff x="6195960" y="2725560"/>
              <a:chExt cx="2602080" cy="1852920"/>
            </a:xfrm>
          </p:grpSpPr>
          <p:pic>
            <p:nvPicPr>
              <p:cNvPr id="2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5960" y="2725560"/>
                <a:ext cx="2591640" cy="18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6195960" y="2731680"/>
                <a:ext cx="2602080" cy="1843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73680" y="4941720"/>
                <a:ext cx="1606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94080" y="5661000"/>
                <a:ext cx="2293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427640" y="6093000"/>
            <a:ext cx="3045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CE5-D8AA-4E24-99F2-DB750E6ADD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75C-2C46-4197-8EEC-650EFD0651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Differenti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model fit by how well           and            satisfy the 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fo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e in the smoothed curves and their derivatives, and the predicted parameter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ng a residual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parameters      and      to minimize the squared residual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64080" y="1596960"/>
                <a:ext cx="620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211640" y="1573200"/>
                <a:ext cx="6462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92480" y="2006640"/>
                <a:ext cx="20811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y</m:t>
                    </m:r>
                    <m:r>
                      <m:t xml:space="preserve">−</m:t>
                    </m:r>
                    <m:r>
                      <m:t xml:space="preserve">β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029120" y="4470480"/>
                <a:ext cx="3808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344760" y="4772160"/>
                <a:ext cx="2556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172040" y="4724280"/>
                <a:ext cx="255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895480" y="3581280"/>
                <a:ext cx="27687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95480" y="5334120"/>
            <a:ext cx="2298960" cy="9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363-4B4C-43B6-A3EA-1C64867FFE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 Parameter Estimation is a two-step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spcBef>
                <a:spcPts val="4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Data are smoothed and put in function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28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are spline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28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ness penalties on higher-order derivatives of             can be used to adjust smoot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Squared residual curve is minimized to obtain parame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estim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an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umerical solution of the ODE is required. Differentiate            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854360" y="1905120"/>
                <a:ext cx="2646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6360" y="2165400"/>
                <a:ext cx="1981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372360" y="2997360"/>
                <a:ext cx="609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8543880" y="3573360"/>
                <a:ext cx="276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403280" y="3852720"/>
                <a:ext cx="276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343240" y="4006800"/>
            <a:ext cx="4316400" cy="1582560"/>
            <a:chOff x="2343240" y="4006800"/>
            <a:chExt cx="4316400" cy="1582560"/>
          </a:xfrm>
        </p:grpSpPr>
        <p:sp>
          <p:nvSpPr>
            <p:cNvPr id="233" name=""/>
            <p:cNvSpPr/>
            <p:nvPr/>
          </p:nvSpPr>
          <p:spPr>
            <a:xfrm rot="5400000">
              <a:off x="4551480" y="3678120"/>
              <a:ext cx="231840" cy="2819520"/>
            </a:xfrm>
            <a:custGeom>
              <a:avLst/>
              <a:gdLst>
                <a:gd name="textAreaLeft" fmla="*/ 0 w 231840"/>
                <a:gd name="textAreaRight" fmla="*/ 83520 w 23184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2343240" y="4006800"/>
                  <a:ext cx="43164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β</m:t>
                              </m:r>
                            </m:e>
                          </m:acc>
                        </m:lim>
                      </m:limLow>
                      <m:d>
                        <m:dPr>
                          <m:begChr m:val="{"/>
                          <m:endChr m:val="}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y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~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t</m:t>
                                          </m:r>
                                          <m:r>
                                            <m:t xml:space="preserve">)</m:t>
                                          </m:r>
                                        </m:num>
                                        <m:den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t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</m:acc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~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</m:acc>
                                      <m:sSub>
                                        <m:e>
                                          <m:r>
                                            <m:t xml:space="preserve">u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~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426200" y="5213160"/>
                  <a:ext cx="5252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674640" y="566100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98800" y="5877000"/>
                <a:ext cx="528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950160" y="5557680"/>
                <a:ext cx="6462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612-5554-4247-886D-BB186A3921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 Parameter Estimatio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ized CSTR model to produce example with known analytical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linear ODE, 2 nonlinear parameters to estima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imulated responses with white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d PDA estimation with conventional nonlinear least squares esti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and bias of parameter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and bias of model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124-F592-4EA2-ADD2-3A982B8F12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zed Non-Isothermal CST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ized model with nonlinear parameter dependence (Marlin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– reactor temperature 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fect T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let concentration an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ar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/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values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i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/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8330.1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1280" y="4035600"/>
            <a:ext cx="4876560" cy="2633400"/>
            <a:chOff x="611280" y="4035600"/>
            <a:chExt cx="4876560" cy="2633400"/>
          </a:xfrm>
        </p:grpSpPr>
        <p:sp>
          <p:nvSpPr>
            <p:cNvPr id="244" name=""/>
            <p:cNvSpPr/>
            <p:nvPr/>
          </p:nvSpPr>
          <p:spPr>
            <a:xfrm>
              <a:off x="2322360" y="461952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89400" y="5202360"/>
              <a:ext cx="0" cy="9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22360" y="611964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1280" y="4368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9760" y="4368960"/>
              <a:ext cx="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968200" y="4119480"/>
              <a:ext cx="1299960" cy="1635840"/>
              <a:chOff x="2968200" y="4119480"/>
              <a:chExt cx="1299960" cy="163584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3311640" y="4119480"/>
                <a:ext cx="956520" cy="144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200000">
                <a:off x="2986200" y="5405040"/>
                <a:ext cx="342000" cy="1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200000">
                <a:off x="3312000" y="5535360"/>
                <a:ext cx="342000" cy="16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289400" y="4619520"/>
              <a:ext cx="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89400" y="50356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89400" y="520236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562640" y="503532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2360" y="5126040"/>
              <a:ext cx="2567160" cy="96840"/>
            </a:xfrm>
            <a:custGeom>
              <a:avLst/>
              <a:gdLst/>
              <a:ahLst/>
              <a:rect l="l" t="t" r="r" b="b"/>
              <a:pathLst>
                <a:path w="1440" h="56">
                  <a:moveTo>
                    <a:pt x="0" y="8"/>
                  </a:moveTo>
                  <a:cubicBezTo>
                    <a:pt x="92" y="32"/>
                    <a:pt x="184" y="56"/>
                    <a:pt x="288" y="56"/>
                  </a:cubicBezTo>
                  <a:cubicBezTo>
                    <a:pt x="392" y="56"/>
                    <a:pt x="512" y="8"/>
                    <a:pt x="624" y="8"/>
                  </a:cubicBezTo>
                  <a:cubicBezTo>
                    <a:pt x="736" y="8"/>
                    <a:pt x="880" y="56"/>
                    <a:pt x="960" y="56"/>
                  </a:cubicBezTo>
                  <a:cubicBezTo>
                    <a:pt x="1040" y="56"/>
                    <a:pt x="1024" y="16"/>
                    <a:pt x="1104" y="8"/>
                  </a:cubicBezTo>
                  <a:cubicBezTo>
                    <a:pt x="1184" y="0"/>
                    <a:pt x="1368" y="8"/>
                    <a:pt x="144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2480" y="4786200"/>
              <a:ext cx="855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6960" y="4035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6960" y="4452840"/>
              <a:ext cx="42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2480" y="5202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2819520" y="5734080"/>
              <a:ext cx="1026720" cy="582480"/>
              <a:chOff x="2819520" y="5734080"/>
              <a:chExt cx="1026720" cy="582480"/>
            </a:xfrm>
          </p:grpSpPr>
          <p:sp>
            <p:nvSpPr>
              <p:cNvPr id="263" name=""/>
              <p:cNvSpPr/>
              <p:nvPr/>
            </p:nvSpPr>
            <p:spPr>
              <a:xfrm>
                <a:off x="281952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4624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19520" y="5734080"/>
                <a:ext cx="1026720" cy="291240"/>
              </a:xfrm>
              <a:custGeom>
                <a:avLst/>
                <a:gdLst/>
                <a:ahLst/>
                <a:rect l="l" t="t" r="r" b="b"/>
                <a:pathLst>
                  <a:path w="672" h="192">
                    <a:moveTo>
                      <a:pt x="0" y="192"/>
                    </a:moveTo>
                    <a:cubicBezTo>
                      <a:pt x="180" y="96"/>
                      <a:pt x="360" y="0"/>
                      <a:pt x="672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798560" y="5626080"/>
              <a:ext cx="517680" cy="304560"/>
              <a:chOff x="1798560" y="5626080"/>
              <a:chExt cx="517680" cy="304560"/>
            </a:xfrm>
          </p:grpSpPr>
          <p:sp>
            <p:nvSpPr>
              <p:cNvPr id="267" name=""/>
              <p:cNvSpPr/>
              <p:nvPr/>
            </p:nvSpPr>
            <p:spPr>
              <a:xfrm>
                <a:off x="2163600" y="58021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1798560" y="5626080"/>
                <a:ext cx="426960" cy="304560"/>
                <a:chOff x="1798560" y="5626080"/>
                <a:chExt cx="426960" cy="3045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807920" y="5626080"/>
                  <a:ext cx="33660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798560" y="5645160"/>
                  <a:ext cx="42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2583000" y="6221160"/>
              <a:ext cx="315360" cy="295200"/>
              <a:chOff x="2583000" y="6221160"/>
              <a:chExt cx="315360" cy="295200"/>
            </a:xfrm>
          </p:grpSpPr>
          <p:sp>
            <p:nvSpPr>
              <p:cNvPr id="272" name=""/>
              <p:cNvSpPr/>
              <p:nvPr/>
            </p:nvSpPr>
            <p:spPr>
              <a:xfrm>
                <a:off x="2746080" y="636408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0800000">
                <a:off x="2745720" y="62211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70120" y="637056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70120" y="6294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83000" y="6283080"/>
                <a:ext cx="87120" cy="174600"/>
              </a:xfrm>
              <a:custGeom>
                <a:avLst/>
                <a:gdLst/>
                <a:ahLst/>
                <a:rect l="l" t="t" r="r" b="b"/>
                <a:pathLst>
                  <a:path w="55" h="110">
                    <a:moveTo>
                      <a:pt x="55" y="0"/>
                    </a:moveTo>
                    <a:cubicBezTo>
                      <a:pt x="20" y="12"/>
                      <a:pt x="12" y="20"/>
                      <a:pt x="0" y="55"/>
                    </a:cubicBezTo>
                    <a:cubicBezTo>
                      <a:pt x="10" y="96"/>
                      <a:pt x="11" y="110"/>
                      <a:pt x="55" y="1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1968120" y="6364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82880" y="595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0960" y="651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654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582-74A1-4301-B510-FDC34051BB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zed Non-Isothermal CST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ized model with nonlinear parameter dependence (Marlin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– reactor temperature 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fect T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let concentration an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ar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/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values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i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/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8330.1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11280" y="4035600"/>
            <a:ext cx="4876560" cy="2633400"/>
            <a:chOff x="611280" y="4035600"/>
            <a:chExt cx="4876560" cy="2633400"/>
          </a:xfrm>
        </p:grpSpPr>
        <p:sp>
          <p:nvSpPr>
            <p:cNvPr id="284" name=""/>
            <p:cNvSpPr/>
            <p:nvPr/>
          </p:nvSpPr>
          <p:spPr>
            <a:xfrm>
              <a:off x="2322360" y="461952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89400" y="5202360"/>
              <a:ext cx="0" cy="9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22360" y="611964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280" y="4368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79760" y="4368960"/>
              <a:ext cx="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968200" y="4119480"/>
              <a:ext cx="1299960" cy="1635840"/>
              <a:chOff x="2968200" y="4119480"/>
              <a:chExt cx="1299960" cy="1635840"/>
            </a:xfrm>
          </p:grpSpPr>
          <p:sp>
            <p:nvSpPr>
              <p:cNvPr id="290" name=""/>
              <p:cNvSpPr/>
              <p:nvPr/>
            </p:nvSpPr>
            <p:spPr>
              <a:xfrm flipH="1">
                <a:off x="3311640" y="4119480"/>
                <a:ext cx="956520" cy="144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200000">
                <a:off x="2986200" y="5405040"/>
                <a:ext cx="342000" cy="1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00000">
                <a:off x="3312000" y="5535360"/>
                <a:ext cx="342000" cy="16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289400" y="4619520"/>
              <a:ext cx="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89400" y="50356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9400" y="520236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562640" y="503532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22360" y="5126040"/>
              <a:ext cx="2567160" cy="96840"/>
            </a:xfrm>
            <a:custGeom>
              <a:avLst/>
              <a:gdLst/>
              <a:ahLst/>
              <a:rect l="l" t="t" r="r" b="b"/>
              <a:pathLst>
                <a:path w="1440" h="56">
                  <a:moveTo>
                    <a:pt x="0" y="8"/>
                  </a:moveTo>
                  <a:cubicBezTo>
                    <a:pt x="92" y="32"/>
                    <a:pt x="184" y="56"/>
                    <a:pt x="288" y="56"/>
                  </a:cubicBezTo>
                  <a:cubicBezTo>
                    <a:pt x="392" y="56"/>
                    <a:pt x="512" y="8"/>
                    <a:pt x="624" y="8"/>
                  </a:cubicBezTo>
                  <a:cubicBezTo>
                    <a:pt x="736" y="8"/>
                    <a:pt x="880" y="56"/>
                    <a:pt x="960" y="56"/>
                  </a:cubicBezTo>
                  <a:cubicBezTo>
                    <a:pt x="1040" y="56"/>
                    <a:pt x="1024" y="16"/>
                    <a:pt x="1104" y="8"/>
                  </a:cubicBezTo>
                  <a:cubicBezTo>
                    <a:pt x="1184" y="0"/>
                    <a:pt x="1368" y="8"/>
                    <a:pt x="144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32480" y="4786200"/>
              <a:ext cx="855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6960" y="4035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6960" y="4452840"/>
              <a:ext cx="42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2480" y="5202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819520" y="5734080"/>
              <a:ext cx="1026720" cy="582480"/>
              <a:chOff x="2819520" y="5734080"/>
              <a:chExt cx="1026720" cy="582480"/>
            </a:xfrm>
          </p:grpSpPr>
          <p:sp>
            <p:nvSpPr>
              <p:cNvPr id="303" name=""/>
              <p:cNvSpPr/>
              <p:nvPr/>
            </p:nvSpPr>
            <p:spPr>
              <a:xfrm>
                <a:off x="281952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4624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5734080"/>
                <a:ext cx="1026720" cy="291240"/>
              </a:xfrm>
              <a:custGeom>
                <a:avLst/>
                <a:gdLst/>
                <a:ahLst/>
                <a:rect l="l" t="t" r="r" b="b"/>
                <a:pathLst>
                  <a:path w="672" h="192">
                    <a:moveTo>
                      <a:pt x="0" y="192"/>
                    </a:moveTo>
                    <a:cubicBezTo>
                      <a:pt x="180" y="96"/>
                      <a:pt x="360" y="0"/>
                      <a:pt x="672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798560" y="5626080"/>
              <a:ext cx="517680" cy="304560"/>
              <a:chOff x="1798560" y="5626080"/>
              <a:chExt cx="517680" cy="304560"/>
            </a:xfrm>
          </p:grpSpPr>
          <p:sp>
            <p:nvSpPr>
              <p:cNvPr id="307" name=""/>
              <p:cNvSpPr/>
              <p:nvPr/>
            </p:nvSpPr>
            <p:spPr>
              <a:xfrm>
                <a:off x="2163600" y="58021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1798560" y="5626080"/>
                <a:ext cx="426960" cy="304560"/>
                <a:chOff x="1798560" y="5626080"/>
                <a:chExt cx="426960" cy="304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807920" y="5626080"/>
                  <a:ext cx="33660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798560" y="5645160"/>
                  <a:ext cx="42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2583000" y="6221160"/>
              <a:ext cx="315360" cy="295200"/>
              <a:chOff x="2583000" y="6221160"/>
              <a:chExt cx="315360" cy="295200"/>
            </a:xfrm>
          </p:grpSpPr>
          <p:sp>
            <p:nvSpPr>
              <p:cNvPr id="312" name=""/>
              <p:cNvSpPr/>
              <p:nvPr/>
            </p:nvSpPr>
            <p:spPr>
              <a:xfrm>
                <a:off x="2746080" y="636408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0800000">
                <a:off x="2745720" y="62211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0120" y="637056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70120" y="6294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83000" y="6283080"/>
                <a:ext cx="87120" cy="174600"/>
              </a:xfrm>
              <a:custGeom>
                <a:avLst/>
                <a:gdLst/>
                <a:ahLst/>
                <a:rect l="l" t="t" r="r" b="b"/>
                <a:pathLst>
                  <a:path w="55" h="110">
                    <a:moveTo>
                      <a:pt x="55" y="0"/>
                    </a:moveTo>
                    <a:cubicBezTo>
                      <a:pt x="20" y="12"/>
                      <a:pt x="12" y="20"/>
                      <a:pt x="0" y="55"/>
                    </a:cubicBezTo>
                    <a:cubicBezTo>
                      <a:pt x="10" y="96"/>
                      <a:pt x="11" y="110"/>
                      <a:pt x="55" y="1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1968120" y="6364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982880" y="595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20960" y="651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0" name=""/>
          <p:cNvGraphicFramePr/>
          <p:nvPr/>
        </p:nvGraphicFramePr>
        <p:xfrm>
          <a:off x="6012000" y="4640400"/>
          <a:ext cx="2743200" cy="1123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in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R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0.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.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6145200" y="420516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First PDA Atte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12000" y="60148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t so go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654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514-FFCA-45A2-A46F-603C30CE1B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spline fit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 B-spline requires first and second-order derivatives to match at intersection of adjacent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match sharp corner – problem for all first-order models with step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484360" y="1461960"/>
            <a:ext cx="4857840" cy="3406680"/>
            <a:chOff x="2484360" y="1461960"/>
            <a:chExt cx="4857840" cy="340668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2484360" y="1461960"/>
              <a:ext cx="4857840" cy="34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203640" y="2525760"/>
              <a:ext cx="3076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harp corners cannot be 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aptured by sp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300560" y="3044520"/>
              <a:ext cx="996840" cy="1391040"/>
              <a:chOff x="4300560" y="3044520"/>
              <a:chExt cx="996840" cy="1391040"/>
            </a:xfrm>
          </p:grpSpPr>
          <p:sp>
            <p:nvSpPr>
              <p:cNvPr id="330" name=""/>
              <p:cNvSpPr/>
              <p:nvPr/>
            </p:nvSpPr>
            <p:spPr>
              <a:xfrm>
                <a:off x="4300560" y="3530520"/>
                <a:ext cx="996840" cy="9050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4466880" y="3044520"/>
                <a:ext cx="18108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2F2-F4CC-4702-91EC-5EE634EC12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ing the spline fit: knot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bic B-splines require continuou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atives at knots, giving poor fits near sharp cor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knots at or near sharp corners (3 for cubic B-splines) alleviate this problem and give better spline fi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50920" y="3048120"/>
            <a:ext cx="4876560" cy="3549600"/>
            <a:chOff x="250920" y="3048120"/>
            <a:chExt cx="4876560" cy="35496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250920" y="3048120"/>
              <a:ext cx="4876560" cy="35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079720" y="3630600"/>
              <a:ext cx="914400" cy="2146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51120" y="5308560"/>
              <a:ext cx="38088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0400" y="47754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ut more knots here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223960" y="3273480"/>
            <a:ext cx="383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xamined effec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ncident knots at sharp co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ly spaced (not coinciden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knots near sharp co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spline fits on parame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estimates in OD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E68-868A-4CEC-8F7C-A4CA5D7F0B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PDA with Coincident Kn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s – step down in T; 30 runs sim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case:  cubic B-splines with uniform knot spacing at 0.1 mi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ne smoothing was much improved using coincident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estimates and model predictions were as good as those obtained using conventional nonlinear least squ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 with coincident knots required less run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coincident knots was significantly more effective than adding closely-spaced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295280" y="2492280"/>
          <a:ext cx="6324840" cy="1905120"/>
        </p:xfrm>
        <a:graphic>
          <a:graphicData uri="http://schemas.openxmlformats.org/drawingml/2006/table">
            <a:tbl>
              <a:tblPr/>
              <a:tblGrid>
                <a:gridCol w="2610000"/>
                <a:gridCol w="1238400"/>
                <a:gridCol w="1238040"/>
                <a:gridCol w="123840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in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R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al P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.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A w/ coincident kn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A w/ close kn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tional N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 Parameter Val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61B-4C97-4304-8C3D-29D595CBA4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 and P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moothing step is critical to the success of the parameter estimates 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spline-fitting approach is to penalize higher-order derivatives of the smooth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s poor results for responses with sharp corners or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improve the smoothing step by incorporating underlying ODE model structure into the spline 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DE model with parameter guesses to define roughness penalty for spline smo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eratively re-weighted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274840" y="3276720"/>
                <a:ext cx="43801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λ</m:t>
                    </m:r>
                    <m:nary>
                      <m:naryPr>
                        <m:chr m:val="∫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A57-EB88-4790-BFA9-9F91C6A7C6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ly re-weighted PDA (iP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-based PDA objective function for fitting sp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Find spline coefficients that min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57200" y="3141720"/>
            <a:ext cx="8381880" cy="2619360"/>
            <a:chOff x="457200" y="3141720"/>
            <a:chExt cx="8381880" cy="261936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4411800" y="3551400"/>
                  <a:ext cx="312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106640" y="3259440"/>
                  <a:ext cx="244152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~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1128600" y="42055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duals between spline fit and data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685800" y="4923000"/>
              <a:ext cx="1825560" cy="541440"/>
              <a:chOff x="685800" y="4923000"/>
              <a:chExt cx="1825560" cy="541440"/>
            </a:xfrm>
          </p:grpSpPr>
          <p:sp>
            <p:nvSpPr>
              <p:cNvPr id="353" name=""/>
              <p:cNvSpPr/>
              <p:nvPr/>
            </p:nvSpPr>
            <p:spPr>
              <a:xfrm>
                <a:off x="720720" y="515160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44720" y="4923000"/>
                <a:ext cx="10764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68360" y="503748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93800" y="526608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800" y="503748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41440" y="51739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85800" y="5189760"/>
                <a:ext cx="1817640" cy="74520"/>
              </a:xfrm>
              <a:custGeom>
                <a:avLst/>
                <a:gdLst/>
                <a:ahLst/>
                <a:rect l="l" t="t" r="r" b="b"/>
                <a:pathLst>
                  <a:path w="1392" h="576">
                    <a:moveTo>
                      <a:pt x="0" y="576"/>
                    </a:moveTo>
                    <a:cubicBezTo>
                      <a:pt x="96" y="304"/>
                      <a:pt x="192" y="32"/>
                      <a:pt x="1392" y="0"/>
                    </a:cubicBez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0040" y="4984920"/>
                <a:ext cx="1741320" cy="479520"/>
              </a:xfrm>
              <a:custGeom>
                <a:avLst/>
                <a:gdLst/>
                <a:ahLst/>
                <a:rect l="l" t="t" r="r" b="b"/>
                <a:pathLst>
                  <a:path w="1097" h="302">
                    <a:moveTo>
                      <a:pt x="0" y="210"/>
                    </a:moveTo>
                    <a:cubicBezTo>
                      <a:pt x="11" y="193"/>
                      <a:pt x="14" y="171"/>
                      <a:pt x="27" y="155"/>
                    </a:cubicBezTo>
                    <a:cubicBezTo>
                      <a:pt x="39" y="140"/>
                      <a:pt x="59" y="133"/>
                      <a:pt x="73" y="119"/>
                    </a:cubicBezTo>
                    <a:cubicBezTo>
                      <a:pt x="99" y="93"/>
                      <a:pt x="117" y="60"/>
                      <a:pt x="146" y="36"/>
                    </a:cubicBezTo>
                    <a:cubicBezTo>
                      <a:pt x="154" y="29"/>
                      <a:pt x="163" y="22"/>
                      <a:pt x="173" y="18"/>
                    </a:cubicBezTo>
                    <a:cubicBezTo>
                      <a:pt x="191" y="10"/>
                      <a:pt x="228" y="0"/>
                      <a:pt x="228" y="0"/>
                    </a:cubicBezTo>
                    <a:cubicBezTo>
                      <a:pt x="256" y="2"/>
                      <a:pt x="320" y="0"/>
                      <a:pt x="356" y="18"/>
                    </a:cubicBezTo>
                    <a:cubicBezTo>
                      <a:pt x="391" y="35"/>
                      <a:pt x="395" y="57"/>
                      <a:pt x="420" y="82"/>
                    </a:cubicBezTo>
                    <a:cubicBezTo>
                      <a:pt x="428" y="90"/>
                      <a:pt x="440" y="93"/>
                      <a:pt x="448" y="100"/>
                    </a:cubicBezTo>
                    <a:cubicBezTo>
                      <a:pt x="492" y="139"/>
                      <a:pt x="528" y="197"/>
                      <a:pt x="576" y="228"/>
                    </a:cubicBezTo>
                    <a:cubicBezTo>
                      <a:pt x="579" y="237"/>
                      <a:pt x="579" y="248"/>
                      <a:pt x="585" y="256"/>
                    </a:cubicBezTo>
                    <a:cubicBezTo>
                      <a:pt x="598" y="273"/>
                      <a:pt x="630" y="302"/>
                      <a:pt x="630" y="302"/>
                    </a:cubicBezTo>
                    <a:cubicBezTo>
                      <a:pt x="658" y="299"/>
                      <a:pt x="686" y="299"/>
                      <a:pt x="713" y="292"/>
                    </a:cubicBezTo>
                    <a:cubicBezTo>
                      <a:pt x="755" y="281"/>
                      <a:pt x="748" y="229"/>
                      <a:pt x="777" y="201"/>
                    </a:cubicBezTo>
                    <a:cubicBezTo>
                      <a:pt x="803" y="122"/>
                      <a:pt x="851" y="66"/>
                      <a:pt x="932" y="46"/>
                    </a:cubicBezTo>
                    <a:cubicBezTo>
                      <a:pt x="991" y="85"/>
                      <a:pt x="1000" y="101"/>
                      <a:pt x="1042" y="155"/>
                    </a:cubicBezTo>
                    <a:cubicBezTo>
                      <a:pt x="1059" y="177"/>
                      <a:pt x="1069" y="201"/>
                      <a:pt x="1097" y="2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57200" y="3141720"/>
              <a:ext cx="3657600" cy="2619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4600" y="493092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nsure spline matches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91480" y="4865760"/>
              <a:ext cx="1752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hrink” spline fit to agree with mechanistic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243400" y="4923000"/>
              <a:ext cx="1817640" cy="457200"/>
              <a:chOff x="5243400" y="4923000"/>
              <a:chExt cx="1817640" cy="457200"/>
            </a:xfrm>
          </p:grpSpPr>
          <p:sp>
            <p:nvSpPr>
              <p:cNvPr id="365" name=""/>
              <p:cNvSpPr/>
              <p:nvPr/>
            </p:nvSpPr>
            <p:spPr>
              <a:xfrm>
                <a:off x="5278320" y="515160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01960" y="492300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25960" y="50371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51400" y="52657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75040" y="50371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99040" y="517392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43400" y="5189760"/>
                <a:ext cx="1817640" cy="74520"/>
              </a:xfrm>
              <a:custGeom>
                <a:avLst/>
                <a:gdLst/>
                <a:ahLst/>
                <a:rect l="l" t="t" r="r" b="b"/>
                <a:pathLst>
                  <a:path w="1392" h="576">
                    <a:moveTo>
                      <a:pt x="0" y="576"/>
                    </a:moveTo>
                    <a:cubicBezTo>
                      <a:pt x="96" y="304"/>
                      <a:pt x="192" y="32"/>
                      <a:pt x="1392" y="0"/>
                    </a:cubicBez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05320" y="5158080"/>
                <a:ext cx="1755720" cy="115560"/>
              </a:xfrm>
              <a:custGeom>
                <a:avLst/>
                <a:gdLst/>
                <a:ahLst/>
                <a:rect l="l" t="t" r="r" b="b"/>
                <a:pathLst>
                  <a:path w="1106" h="73">
                    <a:moveTo>
                      <a:pt x="0" y="73"/>
                    </a:moveTo>
                    <a:cubicBezTo>
                      <a:pt x="54" y="55"/>
                      <a:pt x="109" y="33"/>
                      <a:pt x="164" y="18"/>
                    </a:cubicBezTo>
                    <a:cubicBezTo>
                      <a:pt x="188" y="11"/>
                      <a:pt x="238" y="0"/>
                      <a:pt x="238" y="0"/>
                    </a:cubicBezTo>
                    <a:cubicBezTo>
                      <a:pt x="301" y="9"/>
                      <a:pt x="350" y="26"/>
                      <a:pt x="411" y="46"/>
                    </a:cubicBezTo>
                    <a:cubicBezTo>
                      <a:pt x="429" y="52"/>
                      <a:pt x="466" y="64"/>
                      <a:pt x="466" y="64"/>
                    </a:cubicBezTo>
                    <a:cubicBezTo>
                      <a:pt x="527" y="61"/>
                      <a:pt x="588" y="62"/>
                      <a:pt x="649" y="55"/>
                    </a:cubicBezTo>
                    <a:cubicBezTo>
                      <a:pt x="649" y="55"/>
                      <a:pt x="717" y="33"/>
                      <a:pt x="731" y="28"/>
                    </a:cubicBezTo>
                    <a:cubicBezTo>
                      <a:pt x="749" y="22"/>
                      <a:pt x="786" y="9"/>
                      <a:pt x="786" y="9"/>
                    </a:cubicBezTo>
                    <a:cubicBezTo>
                      <a:pt x="859" y="12"/>
                      <a:pt x="933" y="11"/>
                      <a:pt x="1006" y="18"/>
                    </a:cubicBezTo>
                    <a:cubicBezTo>
                      <a:pt x="1043" y="22"/>
                      <a:pt x="1069" y="46"/>
                      <a:pt x="1106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6006960" y="3141720"/>
                  <a:ext cx="1684440" cy="111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nary>
                        <m:naryPr>
                          <m:chr m:val="∫"/>
                        </m:naryPr>
                        <m:sub/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ε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"/>
            <p:cNvSpPr/>
            <p:nvPr/>
          </p:nvSpPr>
          <p:spPr>
            <a:xfrm>
              <a:off x="5029200" y="3141720"/>
              <a:ext cx="3809880" cy="2619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41880" y="437076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5689440" y="4208760"/>
                  <a:ext cx="3054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β</m:t>
                          </m:r>
                        </m:e>
                      </m:acc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175-2497-43ED-8B2B-A942749B72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has potential for making it easier to estimate dynamic and steady-state models for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D1F-CDD1-4BB4-B579-13598036F9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-Based PDA – Use the ODE to Help Spline 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-35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PDA is a 2-step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 splines to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 ODE model parameters using fitted sp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ly re-weighted PDA (iPDA) 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iter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smoothing and parameter estim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 splines using ODE model (with current parameter estimates) to define a roughness penal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8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s spline fits are smooth and physically reason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model parameters using fitted sp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8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ODE parameters to improve ODE model fit to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 between steps 1 and 2 until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solve the combined parameter estimation/spline smooth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current approach we are using - formulate as an approximate maximum likelihood estimation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47D-9684-4C53-8DA1-548879485F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 Summ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Analysis treats data as curves rather than poi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Differential Analysis can fit parameters in models without numerical solution of the ODE; effort is in fitting splines to the 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ized CSTR model with 2 non-linear parame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DA uses ODE as spline-fitting pena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applied to MIMO ODE models with many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nonlinear CSTR model with 2 ODEs and 4 nonlin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 parameters when some states are un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 parameters when there are stochastic disturbances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dence interval expressions for parameter estim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 maximum likelihood for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C3F-548D-461B-BA2C-43A581242D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ories about 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1 –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parameters in differential equation model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incipal Differential Analysis (P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y #2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ing reactor settings for desired molecular weigh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using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6A3-A36F-41E3-9011-5D020C6722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36120" y="1483920"/>
            <a:ext cx="7651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lymer molecular weight distributions (MWDs) are important because they influence end-use and process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WDs are functional observations, in which weight fraction is a function of molecular weight  (or log(MW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ventional approaches for modeling and predicting MWDs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haracterization using mo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tailed mechanistic models to predict fractions for each chain leng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scretization and treatment as multi-response estimation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loss of information vs.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blem condit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ternative is to treat the MWDs as curves, and use techniques from Functional Data Analysis (F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45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ing reactor settings for desired MWDs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445-AE31-4E4F-BF2D-F134AB246B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dels in which in which factors or responses are func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ample – functional response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y(r)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pends on non-functional factors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CA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CA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 the MWD modeling example, the response is functional and the factors are non-functional, so parameters in the model are functions of the independent variable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which is log(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763640" y="3000240"/>
            <a:ext cx="4226040" cy="500040"/>
            <a:chOff x="1763640" y="3000240"/>
            <a:chExt cx="4226040" cy="500040"/>
          </a:xfrm>
        </p:grpSpPr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1763640" y="3000240"/>
                  <a:ext cx="4226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9" name=""/>
            <p:cNvSpPr/>
            <p:nvPr/>
          </p:nvSpPr>
          <p:spPr>
            <a:xfrm>
              <a:off x="2627280" y="3500280"/>
              <a:ext cx="50472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64000" y="3500280"/>
              <a:ext cx="50472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3280" y="3500280"/>
              <a:ext cx="50508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E8D-2D08-42DC-B9A2-658DD8B975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st squares estimation criterion – minimize integral squared error between predicted and observed respons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olution – can be determined by expressing parameter functions  using basis fun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2421000"/>
                <a:ext cx="6264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1AB-4F78-47B6-9A66-620A87C5E1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for MWD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stimate an empirical model to predict the effect of isothermal reactor temperature (T) and initial initiator concentration [I]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on the resulting MWD for bulk polymerization of styrene in a batch re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sponse (differential weight fraction,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is functional, while factors T and [I]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are non-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ynthetic data generated for a 2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actorial design in T and [I]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ing a fundament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65400" y="4419720"/>
            <a:ext cx="2021040" cy="1891080"/>
            <a:chOff x="1265400" y="4419720"/>
            <a:chExt cx="2021040" cy="1891080"/>
          </a:xfrm>
        </p:grpSpPr>
        <p:sp>
          <p:nvSpPr>
            <p:cNvPr id="398" name=""/>
            <p:cNvSpPr/>
            <p:nvPr/>
          </p:nvSpPr>
          <p:spPr>
            <a:xfrm>
              <a:off x="1835280" y="4635360"/>
              <a:ext cx="129528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03600" y="4594320"/>
              <a:ext cx="71280" cy="723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90960" y="4603680"/>
              <a:ext cx="71280" cy="727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00320" y="5740200"/>
              <a:ext cx="71640" cy="727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92440" y="5749920"/>
              <a:ext cx="71280" cy="727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55840" y="5852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4922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I]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560" y="6002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06720" y="6003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4720" y="4419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32000" y="55720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427640" y="4005360"/>
            <a:ext cx="3600360" cy="25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637080" y="4995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1B1-6B18-412E-96BD-E670B9DADF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for MWD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p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mooth the raw MWD data using spline basis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ransform MWD responses to ensure model can’t give negative predictions, ensure monotonic behaviour of integral - density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it main-effects-plus-two-factor-interaction model using transformed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btain parameter estimate curves that are functions of log(M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ransform back to original coordinates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differential weight fraction vs. log(MW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se model to determine T and [I]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o produce MWD near target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86F-32D1-4A77-A4B4-CDDCF3B4F2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mulated MWDs are available for 4 combinations of T and [I]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lines gave good fits to the original data plots using 14 basis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der B-splines were used with knots at non-uniform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330720" y="3519360"/>
            <a:ext cx="2474640" cy="1771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6014880" y="3527280"/>
            <a:ext cx="2479680" cy="17766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62040" y="3503520"/>
            <a:ext cx="2475000" cy="1771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76040" y="53974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 y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22880" y="5397480"/>
            <a:ext cx="232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d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n(y(r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58000" y="5373720"/>
            <a:ext cx="243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d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(ln(y))/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d from splin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0D1-8E91-44BB-8F78-F177E7F780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627280" y="1465200"/>
            <a:ext cx="6983280" cy="52434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284120" y="1596960"/>
                <a:ext cx="68882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I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I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2627280" y="5870520"/>
            <a:ext cx="383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6160" y="4076640"/>
            <a:ext cx="1079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03800" y="2349360"/>
            <a:ext cx="352908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63800" y="3429000"/>
            <a:ext cx="432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35440" y="3573360"/>
            <a:ext cx="4316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95640" y="2492280"/>
            <a:ext cx="1297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78E-B4FF-4EAE-BA66-D5F99F2605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 has potential for making it easier to estimate dynamic and steady-state models for (chemical)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Potential of FDA needs to be assessed. Could FDA help solve your model estimation problem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9B6-5BFF-42CF-9615-8ABB0C09C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gression model fits simulated data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332000" y="1828800"/>
            <a:ext cx="9361080" cy="4920840"/>
            <a:chOff x="1332000" y="1828800"/>
            <a:chExt cx="9361080" cy="4920840"/>
          </a:xfrm>
        </p:grpSpPr>
        <p:sp>
          <p:nvSpPr>
            <p:cNvPr id="434" name=""/>
            <p:cNvSpPr/>
            <p:nvPr/>
          </p:nvSpPr>
          <p:spPr>
            <a:xfrm>
              <a:off x="1332000" y="5700960"/>
              <a:ext cx="516492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Observed (blue) and predicted (red) MW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or 2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 factorial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Main-effects-plus-two-factor-interaction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1414080" y="1828800"/>
              <a:ext cx="4583160" cy="37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6109920" y="1915920"/>
              <a:ext cx="4583160" cy="372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"/>
          <p:cNvSpPr/>
          <p:nvPr/>
        </p:nvSpPr>
        <p:spPr>
          <a:xfrm>
            <a:off x="6227640" y="1773360"/>
            <a:ext cx="431964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F17-8AFD-4D58-8E66-ACB3B05615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odel to guide further experi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two target distributions, and used model to determine optimal opera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ed as a “blind test” – given target distributions without knowledge of actual operat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operating conditions were correctly identified to within 7% of the true value in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076640" cy="3062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29400" y="4137120"/>
            <a:ext cx="333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conditions compu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inimize difference betw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nd predicted MWD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lved using Nelder-M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x algorith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D40-50FC-4783-8E3E-F8C6633D62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Temperature on M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T reduces average molecular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T increases the breadth of the M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Initiator on M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[I]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duces average molecular w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[I]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produce a shoulder on the MWD – asymmetric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was useful for selecting operating conditions to produce desired M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7EE-0F1A-4A28-9675-0B8FF9EB0A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ories about 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1 –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parameters in differential equation model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incipal Differential Analysis (P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2 – Obtaining reactor settings for desired molecular weigh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using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EED-6B76-4411-8103-A7631205202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has potential for making it easier to estimate dynamic and steady-state models for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is useful for both fundamental and empir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Potential of FDA needs to be assessed. Could FDA help solve your model estimation problem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Better understanding is required before FDA will be widely adopted by the chemometrics and chemical engineer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07D-3D90-49B3-BB98-9992B27073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search collabo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Ramsay, Psychology Dept.,  McG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timating differential equation models using principal differenti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 McAuley, Que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y Poyton – MSc student, Que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eed Varziri – PhD student, Quee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ctional regression for modeling M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n Hutchinson – Quee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a Sulieman – American University of Sharjah, United Arab Emi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526-1F9E-4C4D-8A44-E62BE46D692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inanc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Sciences and Engineering Research Council of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’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CE7-9237-4545-A3AA-3707E8950B3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65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2 Sto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 differential equation models using principal differenti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aining reactor settings for desired molecular weight distributions using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re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F22-66A2-4BDC-8453-9A33DA84D8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odeling and controlling chemical processes, we frequently encounter responses that are functional – functions of an independent variable such as time or molecular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races (time series) – most frequently encounter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cess monitoring and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distributions – e.g., polymer molecular we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s, particle size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object is a function of one or more independent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do we work with these respon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263700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6000" y="3933720"/>
            <a:ext cx="1512720" cy="11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5E5-4A5D-4D8A-ACE1-CA8AEC31A6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of viewing func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82640" y="2614680"/>
            <a:ext cx="2276640" cy="814320"/>
            <a:chOff x="782640" y="2614680"/>
            <a:chExt cx="2276640" cy="814320"/>
          </a:xfrm>
        </p:grpSpPr>
        <p:sp>
          <p:nvSpPr>
            <p:cNvPr id="60" name=""/>
            <p:cNvSpPr/>
            <p:nvPr/>
          </p:nvSpPr>
          <p:spPr>
            <a:xfrm>
              <a:off x="925560" y="278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2640" y="32860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27000" y="264312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20880" y="2614680"/>
              <a:ext cx="213840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751360" y="2614680"/>
            <a:ext cx="2276640" cy="814320"/>
            <a:chOff x="5751360" y="2614680"/>
            <a:chExt cx="2276640" cy="814320"/>
          </a:xfrm>
        </p:grpSpPr>
        <p:sp>
          <p:nvSpPr>
            <p:cNvPr id="65" name=""/>
            <p:cNvSpPr/>
            <p:nvPr/>
          </p:nvSpPr>
          <p:spPr>
            <a:xfrm>
              <a:off x="5894280" y="278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51360" y="32860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95720" y="264312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89600" y="2614680"/>
              <a:ext cx="213840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16440" y="4875120"/>
            <a:ext cx="2232000" cy="785880"/>
            <a:chOff x="4816440" y="4875120"/>
            <a:chExt cx="2232000" cy="785880"/>
          </a:xfrm>
        </p:grpSpPr>
        <p:sp>
          <p:nvSpPr>
            <p:cNvPr id="70" name=""/>
            <p:cNvSpPr/>
            <p:nvPr/>
          </p:nvSpPr>
          <p:spPr>
            <a:xfrm>
              <a:off x="4959360" y="5013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6440" y="55180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60800" y="487512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82640" y="5494320"/>
            <a:ext cx="2276640" cy="814320"/>
            <a:chOff x="782640" y="5494320"/>
            <a:chExt cx="2276640" cy="814320"/>
          </a:xfrm>
        </p:grpSpPr>
        <p:sp>
          <p:nvSpPr>
            <p:cNvPr id="74" name=""/>
            <p:cNvSpPr/>
            <p:nvPr/>
          </p:nvSpPr>
          <p:spPr>
            <a:xfrm>
              <a:off x="925560" y="5661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2640" y="616572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7000" y="552276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0880" y="5494320"/>
              <a:ext cx="213840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15636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0872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637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4040" y="2781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1320" y="298944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86520" y="29275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57960" y="28494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3160" y="271620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0800" y="267012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08840" y="298944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4040" y="280836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83400" y="261144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78600" y="2612880"/>
            <a:ext cx="71640" cy="7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6520" y="288288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1720" y="3035160"/>
            <a:ext cx="71280" cy="7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6920" y="2759040"/>
            <a:ext cx="71640" cy="7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74120" y="2075040"/>
            <a:ext cx="203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d data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84720" y="3716280"/>
                <a:ext cx="1689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780000" y="2781360"/>
            <a:ext cx="1512720" cy="287280"/>
          </a:xfrm>
          <a:prstGeom prst="rightArrow">
            <a:avLst>
              <a:gd name="adj1" fmla="val 50000"/>
              <a:gd name="adj2" fmla="val 131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89400">
            <a:off x="3058920" y="4149720"/>
            <a:ext cx="1800000" cy="287280"/>
          </a:xfrm>
          <a:prstGeom prst="rightArrow">
            <a:avLst>
              <a:gd name="adj1" fmla="val 50000"/>
              <a:gd name="adj2" fmla="val 156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403280" y="4039920"/>
            <a:ext cx="1366920" cy="287280"/>
          </a:xfrm>
          <a:prstGeom prst="rightArrow">
            <a:avLst>
              <a:gd name="adj1" fmla="val 50000"/>
              <a:gd name="adj2" fmla="val 1189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81320" y="4378320"/>
            <a:ext cx="1875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4869000"/>
            <a:ext cx="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51520" y="5589720"/>
                <a:ext cx="67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935680" y="5576760"/>
                <a:ext cx="723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300720" y="5157720"/>
            <a:ext cx="0" cy="358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4941720"/>
            <a:ext cx="0" cy="5749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72360" y="5864400"/>
                <a:ext cx="71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977760" y="4954680"/>
            <a:ext cx="227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data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525680" y="6308640"/>
                <a:ext cx="7239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322-9639-436A-BE39-479F0CC340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of viewing func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ampled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 for dealing with time traces – time series – predominant approach in control modeling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assume uniform sampling – measurements are available at regular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re typically discrete-time – difference or recursion equations  e.g.,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ultiple responses at discrete points from continuou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approach in fundamental process modeling – e.g., predicting polymer molecular weight distributions at different chain lengths, chemical concentrations at different times, particle size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 are measurements at particular times or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data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object is a continuous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ACA-6311-4FEE-804E-B984995469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this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how FDA techniques can be used to model dynamic and steady-state process behavio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n overview of two relevant FDA techniq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incipal differenti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al re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 on the relationship between FDA approaches and existing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F5B-9DB9-4582-91A6-F13F8AF2E1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5:22:55Z</dcterms:created>
  <dc:creator>McLellan</dc:creator>
  <dc:description/>
  <dc:language>en-US</dc:language>
  <cp:lastModifiedBy>James McLellan</cp:lastModifiedBy>
  <dcterms:modified xsi:type="dcterms:W3CDTF">2007-07-03T12:22:44Z</dcterms:modified>
  <cp:revision>363</cp:revision>
  <dc:subject/>
  <dc:title>Slide 1</dc:title>
</cp:coreProperties>
</file>