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B20-A33A-4912-AD54-68098A93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AE7-67D3-4BEA-9BAF-619404BE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FAF-E4E0-497D-9B2D-05BF3B6E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909-BDA2-47F7-86D3-9D2EED7E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9777-5CA0-43CA-BC66-7FE768A7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3E35-7841-4AD8-972F-43ADFD49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CC75-5F18-402A-8AAB-E982B4A2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1B28-0F0E-41AA-A650-0568E4B5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BDCC-9E5D-477C-87AC-6CF945B1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8B24-534B-4B7D-A7E1-E31173A0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B91E-28DE-40EB-A7DC-B5EC58D4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811-0EF2-4A04-8D2C-878E47EA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B3AF-4286-4DD2-AAB6-37A60882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11CF-79CB-437A-8716-67256584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106F-3D9A-47FD-AFF5-AA5A133D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B1E7-5811-4CC9-9C8A-C2D1A4E7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2172-3092-4980-A8D0-C783BF20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98C-52DA-415B-8F52-9388B5AC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4AA-C702-4DA7-B34D-55316810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52D-ECF6-45F9-84E8-6CE46258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CBB-6F93-44BC-A277-EF7BCF63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C263-0AFC-4099-AF64-F7436415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73C-4EA5-4485-89ED-98E775B1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5CD-00EB-41DE-BAC3-BF6C1EDC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DADD-152A-4BF1-96BA-E2AC08718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844A-D25B-4D68-A8F7-42A5477B4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unctional Methods for Testing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log-odds transformation of a three-parameter logistic item response fun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three-dimensional model for a smooth log-odds fun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2133720"/>
          <a:ext cx="784872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133720"/>
                    <a:ext cx="7848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85800" y="3505320"/>
            <a:ext cx="792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3640" y="3765600"/>
            <a:ext cx="794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og(e </a:t>
            </a:r>
            <a:r>
              <a:rPr b="0" i="1" lang="el-GR" sz="2800" spc="-1" strike="noStrike" baseline="30000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+1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as the desired behavior at the extrem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ther two terms add vertical shift and tilt a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mparing the 3D model and the 3PL log-odds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-spline expansions for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W(</a:t>
            </a:r>
            <a:r>
              <a:rPr b="0" i="1" lang="el-GR" sz="4400" spc="-1" strike="noStrike">
                <a:solidFill>
                  <a:srgbClr val="e5ffff"/>
                </a:solidFill>
                <a:latin typeface="Tahoma"/>
              </a:rPr>
              <a:t>θ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, in fact, we will actually estimate our log-odds functions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ing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erms of a set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B-spline basis functions, whi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othing these expansions towards these simpler three-dimensional mode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tting 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use maximum marginal likelihood estimation, using the EM algorithm to maxim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2743200"/>
          <a:ext cx="7772400" cy="126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743200"/>
                    <a:ext cx="777240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17680" y="3962520"/>
            <a:ext cx="813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g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is a prior density on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ften take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the standard nor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ximization is with respect to the nK coeffic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ng the B-spline expansions of the log-od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smoothnes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ave defined smoothness here in a less orthodox fashion; It isn’t defined only in terms of the second derivativ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ead, we define smooth in terms of the size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4419720"/>
          <a:ext cx="8001000" cy="144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419720"/>
                    <a:ext cx="80010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did you come up with thi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conforms exactly to the three-dimensional smooth model, the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= 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ther words, i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05120" y="3581280"/>
            <a:ext cx="5333760" cy="690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" y="4419720"/>
            <a:ext cx="88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057400" y="4800600"/>
          <a:ext cx="41911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800600"/>
                    <a:ext cx="41911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strategy is to define a low-dimensional family of prototype functions that capture what we mean by “smooth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we represent this family by a linear differential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differential equation defines a measure of “roughness”, which we penali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re we penalize this kind of roughness, the more we force the fitted functions to be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general, if we begin with a linear model of dimens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e can find a linear differential equation of order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uch that all versions of this model will satisf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= 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+ 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D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+ 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+ 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m-1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m-1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some choice of coefficient function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j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hange the equation to a roughness penalty by converting it to operator fo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+ 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D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+…+ 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m-1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m-1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 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= 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oughness-penal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133720" y="2496960"/>
          <a:ext cx="4572000" cy="77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496960"/>
                    <a:ext cx="457200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685800" y="3657600"/>
            <a:ext cx="78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the departure o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om this smooth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pers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 = 1,…,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ds to each item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 = 1,…,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makes a binary response =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a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ere 0 indicates “wrong” and 1 indicates “right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to estimate </a:t>
            </a:r>
            <a:r>
              <a:rPr b="0" i="1" lang="en-US" sz="3200" spc="-1" strike="noStrike">
                <a:solidFill>
                  <a:srgbClr val="00cc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00ccff"/>
                </a:solidFill>
                <a:latin typeface="Tahoma"/>
              </a:rPr>
              <a:t>a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the probability of pers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etting item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oughness-penalized log marginal likelihoo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quently, we actually maxim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057400" y="3359160"/>
          <a:ext cx="403848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3359160"/>
                    <a:ext cx="40384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94480" y="4400640"/>
            <a:ext cx="8079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ing parameter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trols the amount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ness in 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;  the larger it is,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these will look like the three-dimens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sion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examp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are three estimates of the item response functions for items 3, 4, 29, and 96 for an introductory psychology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st had 100 items, and was given to 379 student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defined by an expansion in terms of 13 B-spline basis func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=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=0.0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=5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does </a:t>
            </a:r>
            <a:r>
              <a:rPr b="0" i="1" lang="el-GR" sz="4400" spc="-1" strike="noStrike">
                <a:solidFill>
                  <a:srgbClr val="e5ffff"/>
                </a:solidFill>
                <a:latin typeface="Tahoma"/>
              </a:rPr>
              <a:t>θ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a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fallen into the habit of calling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“latent trait score”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ually, it is the value of a function that is chosen more or less arbitrarily to map position along the response manifo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ssumption of a standard normal distribution is pure conven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choose otherwi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charting functions would be more usefu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choices of charting functions are especially interesting, and none are “latent” in any s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leads to interesting diagnostic statistics and graphic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arc length char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c length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measures the Euclidean distance traveled along the manifold from its origin at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 given position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7920" y="3657600"/>
          <a:ext cx="6095880" cy="15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657600"/>
                    <a:ext cx="609588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tem discrimination in arc length metric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useful property of arc length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828800" y="2743200"/>
          <a:ext cx="4038480" cy="14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743200"/>
                    <a:ext cx="403848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78560" y="4095720"/>
            <a:ext cx="840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squared item discrimination is a propor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test discrimination, and therefore has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iar frame of refer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pected score char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uming that expected score is monotonically related to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 (there aren’t too many items like 96), t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666880" y="3276720"/>
          <a:ext cx="304812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276720"/>
                    <a:ext cx="30481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03480" y="4248000"/>
            <a:ext cx="9167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metric that is familiar to users and eas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them to interpr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cted score is already used extensively as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s for assessing differential item functioning (DIF)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response spa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 n-dimensional unit hypercube. The data vectors {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a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…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} are on the corn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ectors of correct response probabilities {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a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…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l along a smooth curve in response space, 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response manifo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anifold is, in principle, identifiable from the data, is therefore not a latent tra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CT Math test for males and fem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items from a 60 item math te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ound 2000 examine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ale and female response manifolds diff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fferential item functioning for an ACT Math test ite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 change char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ollowing total change in probability of success measure is closely related to arc lengt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05120" y="3581280"/>
          <a:ext cx="403848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3581280"/>
                    <a:ext cx="403848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general less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tting functional models to non-functional data is relatively straight-forwa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we do need to transform constrained functions into unconstrained vers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define smoothness or roughness in customized ways that capture the default or baseline behavior of our estimated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nt trait models” aren’t really latent at all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express the idea of a one-dimensional subspace for modeling the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geometry gives us the appropriate mathematical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room for creativity in choosing charting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oking ahe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n intimate connection between designer roughness penalties and the estimation of differential equations from dat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use discrete data to estimate a differential equation that describes the dat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technical details on fitting test data with functional models are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ssi, N., Wang, X. and Ramsay, J. O. (2002) Nonparametric item response function estimates with the EM algorithm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Journal of Educational and Behavioral Statist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27, 291-31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tem response fun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define a smooth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charting fun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maps each point on the response manifold to a corresponding real number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E.g.: arc leng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is way we establish a metric defining positions on this manifold.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the success probability for item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all those at position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This is a smooth function of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 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item response fun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item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3200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sponse manifold for 3 test items: 3, 4, and 2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urve indicates the possible values o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a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ircles correspond to 11 fixed values of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9880" y="1676520"/>
            <a:ext cx="4953240" cy="3714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34760" y="228600"/>
            <a:ext cx="36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items from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 Psych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does “smooth” mea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s a standard normal distribution, then experience indicates that usuall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monoton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slopes nea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for extreme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ower asymptote is positive, and the upper asymptote is 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only one inflection poi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three-parameter logistic item response function is smooth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hallen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item response functions take whatever shapes are supported by the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control their smoothness in this s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ain the function values to lie within [0,1]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a smooth derivative, too, for the item information fun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log-odds transformation deals with the [0,1] constrai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ctually estim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log [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/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], whe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1 –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oth” in terms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eans linear behavior for extreme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small slope on the left and larger positive slope on the r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5:35:29Z</dcterms:created>
  <dc:creator>J. O. Ramsay</dc:creator>
  <dc:description/>
  <dc:language>en-US</dc:language>
  <cp:lastModifiedBy>ramsay</cp:lastModifiedBy>
  <dcterms:modified xsi:type="dcterms:W3CDTF">2004-02-24T17:49:08Z</dcterms:modified>
  <cp:revision>11</cp:revision>
  <dc:subject/>
  <dc:title>Functional Methods for Testing Data</dc:title>
</cp:coreProperties>
</file>