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48DD-1F2B-476A-94F7-53A4F9C2E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4DE7-1110-4E0D-A94B-F665761A4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CC6B-EDC2-4299-B57F-0FC527D5A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B256-632B-431F-AF00-A2B070F6E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33789-84FD-45C5-94C4-518242FEB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5E34F-5BCB-4A65-9ED7-D73CA3A9E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0B968-EA00-4E12-A6E7-F097062AA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33D13-10B5-46EA-B984-58059F186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3D554-AA30-48E1-AAE6-C90C31B14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B9947-6358-488E-91D9-71B26BE3C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8E1D0-DA6D-438C-9DA7-63C53CD5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6DE3-6CA8-46F1-A57E-01B05A7CF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6090A-4836-4FE9-86BA-E6720FD8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E0A13-8194-45F3-B1CB-A4C270C5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8FB6D-AC64-4A75-A1EA-B725B417D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EE33F-F5CE-47D9-8CED-8761C80E3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9A36B-54DF-4ACF-A4A1-7E38A2148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4141-A94B-4687-B339-2C7D09F35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AA21-16D5-4119-B5F8-154FC1B04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9161-F339-4C1B-BFBF-9BDEA0457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C811-9A82-4149-8E19-02C204662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4E0D-B057-433D-9477-0DBA6E66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8A2F-C2D8-472E-A1E0-96FE10B9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BBF7-AE68-4321-B9BD-82ED69BCC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E7C71-F9FC-4514-90BC-BAE1F5622FD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A1DF1-2AF4-4DF6-93F1-0DB1AE0350E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unctional linear model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57200" y="252396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4648320" y="25239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redicting log annual precipitation from the temperature profile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we determine how much precipitation a weather station will receive from the shape of the temperature profil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roughness penalty should we use to smooth 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(t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?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penalize the size of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(2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π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/365)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+D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US" sz="3200" spc="-1" strike="noStrike">
                <a:solidFill>
                  <a:srgbClr val="00ccff"/>
                </a:solidFill>
                <a:latin typeface="Tahoma"/>
              </a:rPr>
              <a:t>harmonic accelera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f 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(t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.  This smooths towards a shifted sinusoid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he smoothed regression functio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nual precipitation is determined by: (1) spring temperature, and (2) by the contrast between late summer and fall temperatures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648320" y="25239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fit to the dat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2743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fit is good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 see  clusters of hi-precip. marine stations, and of continential station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ctic stations have the least precip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276720" y="1866960"/>
            <a:ext cx="556236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What about both the response and covariate being functional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ponse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y(t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covariate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x(s)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x(s,t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re we have a lot of possibilities. We can predict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y(t)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ing the shape of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x(s,t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ver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of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especially for periodic data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ly at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s = 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concurrent influence only, or for some delay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s = t – 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δ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s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t,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 feed forward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region 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Ω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ahoma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depending on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redicting the precipitation profile from the temperature profil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model i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838080" y="2743200"/>
          <a:ext cx="7696440" cy="1042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2743200"/>
                    <a:ext cx="769644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533520" y="434340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is case we have to smooth 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(s,t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with respect to both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regression func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concurrent mode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time, we’ll only use temperature at time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o predict precipitation at time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143000" y="3352680"/>
          <a:ext cx="6553080" cy="844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3352680"/>
                    <a:ext cx="6553080" cy="84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hree types of linear model to consider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ponse is a function; covariates are multivaria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ponse is scalar or multivariate; covariates are function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th response and covariates are function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regression func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048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influence of temperature is nearly constant over the ye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t’s see how the two fits compa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962520" y="1905120"/>
            <a:ext cx="495288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historical linear mode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the functions are not periodic, it may not be reasonable to assume that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x(s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an influence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y(t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when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s &gt; 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historical linear model is described in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Applied Functional Data Analysi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and in talk at this conference by Nicole Malfait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he concurrent model and differential equation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77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e important extension of the concurrent model is to the fitting of data by a differential equation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simple example 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838080" y="4191120"/>
          <a:ext cx="7543800" cy="79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4191120"/>
                    <a:ext cx="7543800" cy="79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Functional response with multivariate covariate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73915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ponse: 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ahoma"/>
              </a:rPr>
              <a:t>i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(t), i=1,…,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variate: 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ahoma"/>
              </a:rPr>
              <a:t>i1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,…, x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del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143000" y="3900600"/>
          <a:ext cx="6781680" cy="73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3900600"/>
                    <a:ext cx="678168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How does daily temperature depend on climate zone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5 Canadian temperature stations, divided into four zones: Atlantic, Pacific, Continental, and Arcti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ponse is 30-year average daily temperatu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functional one-way analysis of variance, set up to have a main effect, and zone effects summing to zero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nalyzing the dat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is straightforward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Y(t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the N-vector of response functions, 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(t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the 5-vector of regression functions (main effect + zone effects), then the LS estimate 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(t) = (X’X)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Tahoma"/>
              </a:rPr>
              <a:t>-1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X’ Y(t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ain and zone effect func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ssessing effec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probably want to assess effects </a:t>
            </a:r>
            <a:r>
              <a:rPr b="0" lang="en-US" sz="3200" spc="-1" strike="noStrike">
                <a:solidFill>
                  <a:srgbClr val="00ccff"/>
                </a:solidFill>
                <a:latin typeface="Tahoma"/>
              </a:rPr>
              <a:t>pointwis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For what times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an effect substantial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can be done using F-ratios conditional on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pointwise confidence bands, et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multiple comparison problem is especially challenging here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Response is scalar, Covariate is a single functional variabl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ponse: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ahoma"/>
              </a:rPr>
              <a:t>i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, i=1,…,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variate: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ahoma"/>
              </a:rPr>
              <a:t>i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(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del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219320" y="3657600"/>
          <a:ext cx="6276960" cy="1200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3657600"/>
                    <a:ext cx="627696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e have to smooth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technical and conceptual issues become much more interesting when the covariate is function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functional covariate is effectively an infinite-dimensional predictor for a finite set of N responses.  We can fit the data exactly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moothing becomes essential; without it, 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(t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will be unacceptably rough, and we won’t learn anything useful.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6T13:06:33Z</dcterms:created>
  <dc:creator>J. O. Ramsay</dc:creator>
  <dc:description/>
  <dc:language>en-US</dc:language>
  <cp:lastModifiedBy>ramsay</cp:lastModifiedBy>
  <dcterms:modified xsi:type="dcterms:W3CDTF">2003-06-30T19:11:31Z</dcterms:modified>
  <cp:revision>6</cp:revision>
  <dc:subject/>
  <dc:title>Functional linear models</dc:title>
</cp:coreProperties>
</file>