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509-D56A-42A2-B3C7-623AA98B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0FE-013A-4035-B3A4-2528BAD9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9BB-DB0E-4EC8-BE48-2665E9AB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781-D8ED-4B7D-8744-B025683E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19E-24C1-4FF6-B502-F35E61D9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576-5D2E-4731-8774-2C912B1C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C33-2B47-4F57-849F-A3CAFC60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40D-6756-4EC5-946F-E44F5BDA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AEC-CCA0-4748-BB67-51E18906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93D-F229-4C85-B32D-BA174ED1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1C7-E026-483F-9C22-CF44CF16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D9F-E258-4965-9AEF-A9002BDA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778C-7550-43BD-ABA9-D0CCE4C45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13:58:35Z</dcterms:created>
  <dc:creator>Jim Ramsay</dc:creator>
  <dc:description/>
  <dc:language>en-US</dc:language>
  <cp:lastModifiedBy>Jim Ramsay</cp:lastModifiedBy>
  <dcterms:modified xsi:type="dcterms:W3CDTF">2005-07-21T19:13:10Z</dcterms:modified>
  <cp:revision>2</cp:revision>
  <dc:subject/>
  <dc:title>Slide 1</dc:title>
</cp:coreProperties>
</file>