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515-4FDF-4BB1-A80E-050F3F7D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6C3-A9E7-4005-B5A7-5F5A7CB5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D38-4342-48B4-B7C7-C437B8DC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F40-189F-48F1-A3A1-305E99E9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BBAF-AEBD-4620-A9E5-8467DD07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87D0-ED75-439C-B692-7E3645FE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C042-2FC1-4B2C-9608-002D420E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8DBC-225E-423A-9C5F-AEB4DB14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9333-F554-49E0-9A99-A596A14C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E17C-CB33-4180-BF14-1E169EC6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C025-146A-4513-8894-9ED2CF3E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0B3-DD6E-4B13-AA31-CA515F35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B43B-2518-4853-89DD-1E9C60D7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CE79-EE9C-497B-B9E0-3B7F6DA2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E2CF-FC47-4BF2-99E7-F74940A7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499F-FCF8-4ABC-A978-2A184A2A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D11E-C41B-4992-BBD1-1739539D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7AF-F574-4BD5-92CD-35EB27A4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638-76C4-4A58-A214-45262C51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6C3-E02E-401F-8F2F-E1D4957C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C0BA-9A64-4ABD-8674-3E8F242D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914-8684-4450-A76A-C7FB468C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778-6974-4BDD-B9C5-4AD9C1F3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03D-B9E0-463F-BE2C-F434FD47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709F-6CCF-4D22-967E-235823BC9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E13A-FB04-4D3F-9ACD-DABEA7F87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om Data to Differential Equ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m Ram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Gill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098800" y="4038480"/>
          <a:ext cx="5251320" cy="89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8800" y="4038480"/>
                    <a:ext cx="525132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fferential equations and time sc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E’s are important where there are events at different time sc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rder of the equation plus one corresponds to the number of time sc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irst-order equation can model events on two time scales: long-term, modeled b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short-term, modeled b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x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andwriting has four time sc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rage spatial position needs only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ime scale is many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all left-to-right trend require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, with a time scale a second or l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sps, loops, strokes requir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, with a time scale of 100 msec or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ent effects such from pen contacting paper requir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th a scale of 10 mse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we can model data on functions or functional input/output systems, we will have a modeling tool that greatly extends the power and scope of existing nonparametric curve-fitting techniqu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models will be dynamic in the sense of also modeling the rate of change in the sys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also get better estimates of functional parameters and their derivativ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simple input/output 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begin by looking at a first order DIFE for a single output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a single input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(t)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SIS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our goal is the linking of multiple inputs to multiple outputs (MIMO) by linear or nonlinear systems of arbitrary orde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990720" y="1066680"/>
          <a:ext cx="6896160" cy="8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066680"/>
                    <a:ext cx="68961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19840" y="2217600"/>
            <a:ext cx="836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often called the </a:t>
            </a:r>
            <a:r>
              <a:rPr b="0" i="1" lang="en-US" sz="3200" spc="-1" strike="noStrike">
                <a:solidFill>
                  <a:srgbClr val="00ccff"/>
                </a:solidFill>
                <a:latin typeface="Tahoma"/>
              </a:rPr>
              <a:t>forcing function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 </a:t>
            </a:r>
            <a:r>
              <a:rPr b="0" i="1" lang="en-US" sz="3200" spc="-1" strike="noStrike">
                <a:solidFill>
                  <a:srgbClr val="00ccff"/>
                </a:solidFill>
                <a:latin typeface="Tahoma"/>
              </a:rPr>
              <a:t>coefficient fun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define the D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ystem is </a:t>
            </a:r>
            <a:r>
              <a:rPr b="0" i="1" lang="en-US" sz="3200" spc="-1" strike="noStrike">
                <a:solidFill>
                  <a:srgbClr val="00ccff"/>
                </a:solidFill>
                <a:latin typeface="Tahoma"/>
              </a:rPr>
              <a:t>line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se coeffic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s, and in the in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88160" y="236520"/>
            <a:ext cx="813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simple case, an analytic solution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si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09520" y="1371600"/>
          <a:ext cx="738504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09520" y="1371600"/>
                    <a:ext cx="73850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838080" y="41148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ever, in most situations involv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E’s it is necessary to use numeric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s to find the solu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362320"/>
            <a:ext cx="23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62080" y="2895480"/>
          <a:ext cx="2855880" cy="103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62080" y="2895480"/>
                    <a:ext cx="28558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constant coefficient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7696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see more clearly what happens wh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efficient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constant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function stepping from 0 to 1 at tim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371600" y="4800600"/>
          <a:ext cx="5715000" cy="14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4800600"/>
                    <a:ext cx="57150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2666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ga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ant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rols 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responsiv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he system to a change in inpu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505320" y="609480"/>
            <a:ext cx="5181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How can we estimate a DIFE from noisy data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DIFE as a linear differential operato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express the first order DIFE as a linear differential operat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200400"/>
          <a:ext cx="752148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75214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52800" y="4267080"/>
            <a:ext cx="52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generally, dropping “(t)”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4876920"/>
          <a:ext cx="6324480" cy="136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4876920"/>
                    <a:ext cx="63244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the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equations are powerful tools for modeling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new methods for estimating differential equations directly from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examples are offered, drawn from chemical engineering and medi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moothing data with the operator </a:t>
            </a: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we know the differential equation, then the operato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i="1" lang="el-GR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α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n define a data smoother.  The penalized least squares fitting criterion 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43000" y="3463920"/>
          <a:ext cx="6791400" cy="11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463920"/>
                    <a:ext cx="67914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443520" y="4976640"/>
            <a:ext cx="895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rger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, the more the fitting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forced to be a solution of the differential equ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i="1" lang="el-GR" sz="1800" spc="-1" strike="noStrike">
                <a:solidFill>
                  <a:srgbClr val="ffffff"/>
                </a:solidFill>
                <a:latin typeface="Tahoma"/>
              </a:rPr>
              <a:t>αβ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 =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smooth val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expanded in terms of a se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s functions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φ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i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y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trix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ains the values of these functions at time point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then the vector fitting the data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480" y="4237200"/>
          <a:ext cx="7120080" cy="138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237200"/>
                    <a:ext cx="7120080" cy="13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to estimate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i="1" lang="el-GR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α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function of weight coefficients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functions of parameter vector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respectively, then we can optimize 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profiled error sum of squar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00200" y="4206960"/>
          <a:ext cx="4952880" cy="10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206960"/>
                    <a:ext cx="495288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838080" y="5410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respect to parameter vector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dding constrai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simple matter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ain some coefficient functions to be zero or a consta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 others to be smooth, employing specific linear differential operators to smooth them towards specific target spa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d more 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 approach is easily generalizabl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E’s and differential operators of any 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inputs u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) and outputs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licated functional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linear DIFE’s and operat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choosing </a:t>
            </a:r>
            <a:r>
              <a:rPr b="0" i="1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ing the smoothing parameter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lways a delicate ma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ight value of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ll be rather large if the data can be well-modeled by a low-order DIFE, but not so large as to fail to smooth observational noise and small additional functional vari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ized cross-validation seems to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Simul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’s see how well this method works where we know what we’re estima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simple harmonic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=1,…,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j=1,…,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l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2590920"/>
          <a:ext cx="7315200" cy="69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590920"/>
                    <a:ext cx="73152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48040" y="3386160"/>
            <a:ext cx="8375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th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ik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’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ε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’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(0,1)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 = 0(0.01)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unctional variation satisfies the differential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676520" y="4648320"/>
          <a:ext cx="5105160" cy="56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648320"/>
                    <a:ext cx="5105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054080" y="5367240"/>
            <a:ext cx="7315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 that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 =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 =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=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(6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55.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81120" y="876240"/>
            <a:ext cx="5981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simulated data with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 = 2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constant bases for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 ,…,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 = 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 results are fo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1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the RIMSE’s for derivatives 0, 1 and 2 are 0.32, 9.3 and 315.6, res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stimated, best results are for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the RIMSE’s are 0.18, 2.8, and 49.3, res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ing precision ratios of 1.8, 3.3 and 6.4, res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estimated as 353.6 whereas the true value was 355.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as 0.1,  with true value 0.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fferential Equations as Mode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E’S make explicit the relation between one or more derivatives and the function it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example is the harmonic motion equ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495680" y="3124080"/>
          <a:ext cx="4038840" cy="8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3124080"/>
                    <a:ext cx="40388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75438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ddition to better curve estimates and much better derivative estimates, note that the derivative RMSE’s do not go wild at the end poi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because the DIFE ties the derivatives to the function values, and the function values are tamed by the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decaying harmonic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econd order equation defining harmonic behavior with decay, forced by a step fun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= 4.04,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= 0.4,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= -2.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(t) = 0, t &lt; 2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π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, u(t) = 1, t ≥ 2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π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ise with std. dev. 0.2 added to 100 randomly generated solution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1752480"/>
          <a:ext cx="8229600" cy="4343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ame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ue 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an Estim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d. Err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β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0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0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β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3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.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365040" y="228600"/>
            <a:ext cx="837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s from 100 samples using minimum generalized cross-validation to choose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notone smooth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constrained functions can be expressed as DIFE’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mooth strictly monotone function can be expressed as the second order D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648320" y="2514600"/>
          <a:ext cx="4038480" cy="76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514600"/>
                    <a:ext cx="40384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monotonically smooth data by estimating the second order DIFE direct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onstrain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 =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give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nough flexibility to smooth the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following artificial example, the smoothing parameter was chosen by generalized cross-validation.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as expanded in terms of 13 B-spli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Simulated Chemical React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is a textbook model for the input and output concentrations in a non-isothermal continuously-stirred tank reac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 measurements are (1) input concentra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, (2) flow rat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(3) temperatur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put is concentration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ou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Differential Equa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ehavior of a derivative is often of more interest than the function itself, especially over short and medium time perio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often counts is how rapidly a system responds rather than its level of respo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locity and acceleration can reflect energy exchange within a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all equations lik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 = m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 = m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Differential Eq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143000" y="1828800"/>
          <a:ext cx="6477120" cy="71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64771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362320" y="3581280"/>
          <a:ext cx="3581280" cy="766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581280"/>
                    <a:ext cx="35812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609480" y="4724280"/>
            <a:ext cx="81536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wo parameters to be estimated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9840" y="282744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cess control experi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ineers studying systems like these like to carry out experiments in which inputs are stepped up or down at random tim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infer the dynamics of the process from the impacts of these steps on the output(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olved this differential equation for known values of the two unknown parameter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hen added zero mean Gaussian error with a standard deviation of 0.0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estimat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8.11 as opposed to the data-generating value of 8.3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estimate of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s 22.44 as opposed to the data-generating value of 23.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Real-Data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low in an oil refinery distillation colum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ngle input is “reflux flow” and the output is “tray 47”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ere 194 sampling poi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0 B-spline basis functions were used to fit the output, and a step function was used to model the in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066680" y="512640"/>
            <a:ext cx="68580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458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scientists often provide theory to biologists and engineers in the form of DIFE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fields such as pharmacokinetics and industrial process control routinely use DIFE’s as models, especially for input/output syst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E’s are especially useful when feedback systems must be developed to control the behavior of syst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ults for the refinery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some experimentation with first and second order models, and with constant and varying coefficient models, the clear conclusion seems to be the constant coefficient mod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4038480"/>
          <a:ext cx="5715000" cy="65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038480"/>
                    <a:ext cx="57150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90720" y="449280"/>
            <a:ext cx="70866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estimate differential equations directly from noisy data with little bias and good precis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gives us a lot more modeling power, especially for fitting input/output functional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s of derivatives can be much better, relative to smoothing metho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functions, such as monotone, can be fit by estimating the DIFE that defines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olution to a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 order linear DIFE is a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dimensional function space, and thus the equation can model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varia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replications as well as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aver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 of DIFE’s are important models for processes mutually influencing each other, such as treatments and symptoms, predator and prey, and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E’s require that derivatives are smooth, since they link the behavior of derivatives to that of the function it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 simple nonlinear differential equations can imply function characteristics that would be impossible to model in any other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össler Equ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nearly linear system exhibits chaotic behavior that would be virtually impossible to model without using a DIF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52480" y="3809880"/>
          <a:ext cx="4876920" cy="213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809880"/>
                    <a:ext cx="4876920" cy="21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ochastic DIFE’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introduce stochastic elements into DIFE’s in many way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coefficient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forcing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initial, boundary, and other constrai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chastic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7:38:53Z</dcterms:created>
  <dc:creator>ramsay</dc:creator>
  <dc:description/>
  <dc:language>en-US</dc:language>
  <cp:lastModifiedBy>ramsay</cp:lastModifiedBy>
  <dcterms:modified xsi:type="dcterms:W3CDTF">2004-02-28T02:13:33Z</dcterms:modified>
  <cp:revision>37</cp:revision>
  <dc:subject/>
  <dc:title>From Data to Differential Equ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