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BBA-185D-4BE4-9849-1A6A7984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F38-7A37-494B-BF09-70B3D8E5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BBD-ACA5-4880-A712-FC35202B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E8D-9D6D-4DB1-848E-691FC985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4ACF-6CCE-4C81-A8E3-A1785B3E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E317-1CFD-4F38-909C-DD0875C6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4230-103F-4D2C-B0E4-780C9A80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1EC5-DD51-4F36-B9E4-35B2880C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7A31-6AAC-416C-BC85-7BFA57FF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1135-FCA8-4EFF-A729-670353B7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1A98-9145-48E8-A789-732F895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221-0583-4069-B3C0-A8C6114B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1900-5181-43B0-9F07-32AC50AB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B8A1-12B5-489D-A0BD-75ABF7D5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F138-BB29-4A69-A51E-F4BF4FD6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D023-F4AB-436A-B132-2ECCF649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E9B7-5341-4E5C-B87C-BFC2F65E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4F6-7FD0-43F2-B7A9-16E66944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89B-BAD3-442F-BF7C-9CA5AFBD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214-6CEB-4D77-89BB-ADFADA72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2AE-7248-4E24-B346-BF19784E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D78-3073-401B-83DA-FD4B8A45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449-FA34-4847-98ED-6888AF1F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358-0296-4DD7-A823-4D4881A2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B43A-7DC9-4C70-B1D4-832ED81F2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84CE-AF3C-4B7E-B07D-F417DD9BD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ychometrics, Dynamics, and  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814320" y="2698920"/>
            <a:ext cx="184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view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3504960"/>
            <a:ext cx="7010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ergy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E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input function of time, such as educ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onstants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&gt;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80960" y="1539720"/>
          <a:ext cx="5923080" cy="25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0960" y="1539720"/>
                    <a:ext cx="592308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600200" y="35053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differential equations don’t have explicit solutions, but this one d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 brainergy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which will often b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9320" y="2666880"/>
          <a:ext cx="635472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666880"/>
                    <a:ext cx="635472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762120" y="4419720"/>
            <a:ext cx="76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see what happens whe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=1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aries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step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523880" y="5562720"/>
          <a:ext cx="6354720" cy="108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562720"/>
                    <a:ext cx="635472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lop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es positive i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rols how fast the system responds to 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system is a problem solver, t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indicates how quickly the person learns to solve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about 4/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me units, full capacity is reached, and the system is ready for more in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Differential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noisy discrete-time data, and want to use them to estimate a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a sol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equation to fit the data as well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lots of flexibility in choosing a differential equation, and we can’t assume that there is an explicit solution to the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methods for analyzing curves or functions as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on theme is using derivatives in various 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 Ramsay and Silverman (1997)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Ramsay and Silverman (2002) Appli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wo Functional Data Analysis Techniqu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-spline Smooth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noisy data and a differential equation, find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will smooth the data and at the same time be nearly a solution to the differential equa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ncipal Differential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stimate a linear differential equation for which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s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timating a DIFE from noisy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’ve recently combined these two methods into a technique for estimating a differential equation from noisy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ur simple example, this amounts to estimating parameter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much more complex DIFE’s can be estimated as well, including linear or nonlinear, and single or multiple variabl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 Oil Refin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some data from an oil refinery in Corpus Chri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reflux flow) is negatively coupled to the out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tray 47 leve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mooth curve is a solution to the differential equation that best represents this relationsh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045120" cy="502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12440" y="5467320"/>
            <a:ext cx="69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haps this oil refinery is not too sma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ng as Input/Output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est score is actually a derivative with respect to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 a differential equation model for testing data seems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testing data will be more and more import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some new tools for working with dynamic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let’s consider how to use time as a cov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situations will call for multiple outputs: Performance with a putter, a driver, and an iron, for example.  Or in algebra and geome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many situations will involve multiple inputs: Regular classes, tutoring sessions, labs and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chnology used in these illustrations can handle these situations, at least for linear differential equations.  Nonlinear equations don’t pose any problem in princi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Simulated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agine that the data are golf scores over successive games, and that the input is a set of three equally-spaced lessons from a golf pr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llowing slides show three golfers.  Which is a future Tiger Wood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78760" y="594360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lessons are nicely ti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47920" y="5943600"/>
            <a:ext cx="74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needs to find another spo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6324840" cy="5283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92280" y="5695920"/>
            <a:ext cx="73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should get lessons more oft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 this Model Good Enough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y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be constant is too simple.  Allowing for fatigue, boredom, and other things requires a functio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irst order equation can’t allow for sudden transient effects like insight.  We may need a differential equation involving higher deriva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eed nonlinear equations as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Nonlinear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9080" y="1600200"/>
          <a:ext cx="684036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9080" y="1600200"/>
                    <a:ext cx="6840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93640" y="3994200"/>
            <a:ext cx="794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mmed output from these two equations will exhibit both the rapid learning and long-term retention  required of human lear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H. R. Wilson (1999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pikes, Decisions and Actions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xford, for many more examples of differential equation models in neuro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rol Theo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eers who work with input/output systems have developed ways of designing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feedback loo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optimize outpu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re working with a team of chemical engineers at Queen’s Univer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here Would the Data Come From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design customized learning situations, like golf, and track how a learner makes progress as a function of time and inpu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haps video and computer games are nearly what we n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lready know that people will pay big money to have these experie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corporations with deep pockets pay for this kind of testing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testing would generate performance data over time that depend on one or more functional covari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tools are available for these data that fit them with a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Dynamic psychometr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ooks prom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arning to Play Gol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buy some clubs. We play a few games, each being an 18 item test. It’s harder than it loo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take a lesson.  We play a few games.  Our score improves to a better lev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take another lesson, play some games, and things improve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question: How quickly is a lesson reflected in an improvement in sco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er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is defined as “the capacity to do work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etic energy E = M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2, and involves mass, distance,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interested in “the capacity to solve problem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involve difficulties (=mass), number of problems (=distance)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call mental energ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rainer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unts is problem solving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= energy expend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maximum difficulty of problem solvable per unit time, 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lighter problems solv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i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 = d brainergy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 Power and Time Sc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the concept of brain power when we consider intelligence on two time sc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Long ter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How much knowledge is available over large time intervals, like a school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Short ter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w much new knowledge can be acquired over a short time interval, like a single cl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sts Measure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tal tests and psychological scales are one of the greatest technological achievements of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s work so well because they are time-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cores reflect brain power rather than brai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puts to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about the structure of the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t of tools to solv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in the use of these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se requir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s to acquisition of brain power are functions of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Differential Equation in Ti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ks one or more time-derivative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/dt, d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/dt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 to th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model for system dynamics: change over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include one or more input or covariate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long-term descrip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short-term descrip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3:21:53Z</dcterms:created>
  <dc:creator>J. O. Ramsay</dc:creator>
  <dc:description/>
  <dc:language>en-US</dc:language>
  <cp:lastModifiedBy>ramsay</cp:lastModifiedBy>
  <dcterms:modified xsi:type="dcterms:W3CDTF">2003-10-17T06:02:12Z</dcterms:modified>
  <cp:revision>18</cp:revision>
  <dc:subject/>
  <dc:title>Psychometrics, Dynamics, and  Functional Data Analysis</dc:title>
</cp:coreProperties>
</file>