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75E-F0BD-4FC9-BC0C-E128932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AEE-BD48-4312-957E-A04832F2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B8B-474D-4B56-9CBC-448696C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89E-7EAF-4E54-94EA-A5E056B2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8DD7-9E8A-49ED-A609-33714D12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914F-606A-4947-A3B8-FCF6846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3F11-E84A-427D-8802-E5DEAD7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BF0D-A93D-4653-9758-46C58B1E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0AD5-D91D-43A8-B6B8-304FD12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396C-1094-45EA-812C-B74C2395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2611-5008-472B-B870-A156C4B1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331-F079-437F-B049-F98888D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956-2D4C-4012-B4AF-056ECA9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D39B-C3A6-4143-9A24-4D49649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CAEF-145C-4763-B5CC-9395EFF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EB3E-3638-446B-81E3-896F927E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0B9B-1B9E-46E5-B1DC-6D84BDE9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E99-EA71-4CD8-83FA-2C32CB18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2EC-11F1-4592-A33D-0B4B04AF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73E-426E-4CD5-AA21-291AF7B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F98-F0FA-49BD-89D6-E43C8CCB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B61-D71B-46E7-8B6E-8B79709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DA2-86F6-4BB3-B711-699933C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EBF-F549-4EBC-B945-5FCAFF7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996-E369-4123-AEDA-95FA39B915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2FB-BD95-4414-87F5-AE035F4A2E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98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d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ic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4.30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4.74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4.30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4:15:37Z</dcterms:created>
  <dc:creator>James Owen Ramsay</dc:creator>
  <dc:description/>
  <dc:language>en-US</dc:language>
  <cp:lastModifiedBy>ramsay</cp:lastModifiedBy>
  <dcterms:modified xsi:type="dcterms:W3CDTF">2004-06-07T14:00:33Z</dcterms:modified>
  <cp:revision>13</cp:revision>
  <dc:subject/>
  <dc:title>Phase and Amplitude Variation in Montreal Weather</dc:title>
</cp:coreProperties>
</file>