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9FE-1EC7-4E55-83AD-BA72C0B4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B46-65A7-4FE8-A3CA-BA0CE2E2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4B9-2858-441E-94A0-3B024608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063-8D7A-4A93-AFE7-2C0B2AE9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15E4-F03A-4FFD-AAAC-C9951CC2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CB8D-EFB6-41C3-8D5C-8E0E557C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0E7F-7F29-429F-A37C-1470BA2C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2820-DFDF-45BD-9E65-DAD99B35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9CCC-BB43-4EE8-A7F1-D9DFF092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7DB4-94BD-488E-817D-CC384AC7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88F5-95C0-43E4-B585-C8BAC201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C81-B246-4357-A634-039F26E9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B871-126E-4DE6-97AE-ABBC51D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F20E-F31B-453B-8240-9AD3FE61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7C90-8CCC-42AD-88B9-08A2DA07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A8D6-6D5D-423E-BC2A-9DA64145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F9C2-B769-45BD-AF73-1F5C75D5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2D3-30E7-4D68-8070-6476B1EC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6EB-1ADE-4624-9D9C-3082ED2F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F8A-DD6F-4937-9233-FDE2320F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E1E-0F92-4C4B-A030-E1C7A137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26B-14F8-43EB-95B6-977C83C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6BD-4ECA-41D9-A1EC-BA74768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3F1-543A-4BD3-9C99-33FA542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AF5F-7F6C-4F3B-856D-1F486C085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446F-2D6E-46FA-95E0-45B190596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Predator-Prey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. F. Fussmann, S. P. Ellner, K. W. Shertzer and G. Hairston J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2000) 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cience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, 290, 1358-13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ig. 1. Population dynamics predicted by the original model (left panels) and observed in the chemostat experiments (right panels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-"/>
          <p:cNvPicPr/>
          <p:nvPr/>
        </p:nvPicPr>
        <p:blipFill>
          <a:blip r:embed="rId2"/>
          <a:stretch/>
        </p:blipFill>
        <p:spPr>
          <a:xfrm>
            <a:off x="3043080" y="54288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x"/>
          <p:cNvPicPr/>
          <p:nvPr/>
        </p:nvPicPr>
        <p:blipFill>
          <a:blip r:embed="rId3"/>
          <a:stretch/>
        </p:blipFill>
        <p:spPr>
          <a:xfrm>
            <a:off x="3835440" y="5428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-"/>
          <p:cNvPicPr/>
          <p:nvPr/>
        </p:nvPicPr>
        <p:blipFill>
          <a:blip r:embed="rId4"/>
          <a:stretch/>
        </p:blipFill>
        <p:spPr>
          <a:xfrm>
            <a:off x="4532400" y="542880"/>
            <a:ext cx="75960" cy="38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-"/>
          <p:cNvPicPr/>
          <p:nvPr/>
        </p:nvPicPr>
        <p:blipFill>
          <a:blip r:embed="rId5"/>
          <a:stretch/>
        </p:blipFill>
        <p:spPr>
          <a:xfrm>
            <a:off x="5337000" y="54288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-"/>
          <p:cNvPicPr/>
          <p:nvPr/>
        </p:nvPicPr>
        <p:blipFill>
          <a:blip r:embed="rId6"/>
          <a:stretch/>
        </p:blipFill>
        <p:spPr>
          <a:xfrm>
            <a:off x="7000920" y="54288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-"/>
          <p:cNvPicPr/>
          <p:nvPr/>
        </p:nvPicPr>
        <p:blipFill>
          <a:blip r:embed="rId7"/>
          <a:stretch/>
        </p:blipFill>
        <p:spPr>
          <a:xfrm>
            <a:off x="1192320" y="679320"/>
            <a:ext cx="75960" cy="38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delta"/>
          <p:cNvPicPr/>
          <p:nvPr/>
        </p:nvPicPr>
        <p:blipFill>
          <a:blip r:embed="rId8"/>
          <a:stretch/>
        </p:blipFill>
        <p:spPr>
          <a:xfrm>
            <a:off x="2806560" y="679320"/>
            <a:ext cx="76320" cy="10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delta"/>
          <p:cNvPicPr/>
          <p:nvPr/>
        </p:nvPicPr>
        <p:blipFill>
          <a:blip r:embed="rId9"/>
          <a:stretch/>
        </p:blipFill>
        <p:spPr>
          <a:xfrm>
            <a:off x="5427720" y="679320"/>
            <a:ext cx="76320" cy="104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delta"/>
          <p:cNvPicPr/>
          <p:nvPr/>
        </p:nvPicPr>
        <p:blipFill>
          <a:blip r:embed="rId10"/>
          <a:stretch/>
        </p:blipFill>
        <p:spPr>
          <a:xfrm>
            <a:off x="6140520" y="679320"/>
            <a:ext cx="75960" cy="1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delta"/>
          <p:cNvPicPr/>
          <p:nvPr/>
        </p:nvPicPr>
        <p:blipFill>
          <a:blip r:embed="rId11"/>
          <a:stretch/>
        </p:blipFill>
        <p:spPr>
          <a:xfrm>
            <a:off x="7418520" y="679320"/>
            <a:ext cx="75960" cy="1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1143000" y="533520"/>
            <a:ext cx="701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would like to 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data to estimate dilution rate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 the fit to the data based on the differential equatio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 for some unexplained residual variatio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eliver a reasonable confidence interval for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s for the interaction of prey and predators date back to the beginning of th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(Volterra-Lotke equa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me conditions, both predator and prey populations oscill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amous Canadian lynx data show this, for exam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xperi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ank contains a species of algae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lorella vulgar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trogen is the resource that limits algae growth, and this is controlled in the experi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dator is a planktonic rotifer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chionis calyciflo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at feeds on the alga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riab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itrogen concentration: prey nutr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ey concentration -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lor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edator concentration - Reproduc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chio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otal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chion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44400" y="2162160"/>
          <a:ext cx="778032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400" y="2162160"/>
                    <a:ext cx="77803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dator-Prey differential equ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98560" y="64620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 two F functions are thresholding functions that vary between zero and an upper asympto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3000" y="3108240"/>
          <a:ext cx="6016680" cy="18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08240"/>
                    <a:ext cx="601668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rimental Consta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3.30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2.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4.3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5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0.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0.0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0.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odel parameter </a:t>
            </a:r>
            <a:r>
              <a:rPr b="0" i="1" lang="el-GR" sz="4000" spc="-1" strike="noStrike">
                <a:solidFill>
                  <a:srgbClr val="e5ffff"/>
                </a:solidFill>
                <a:latin typeface="Tahoma"/>
              </a:rPr>
              <a:t>δ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(dilution level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arameter controls how rapidly the tank nitrogen level responds to a change in input nitrogen, and also how rapidly the prey population responds to this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99072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low dilution level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, both predator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nd prey populations decay to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medium rates, the two populat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re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higher rates, the two  populat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oscil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even higher rates, the tw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populations again deca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6:47:38Z</dcterms:created>
  <dc:creator>Gregor</dc:creator>
  <dc:description/>
  <dc:language>en-US</dc:language>
  <cp:lastModifiedBy>ramsay</cp:lastModifiedBy>
  <dcterms:modified xsi:type="dcterms:W3CDTF">2004-12-09T15:11:32Z</dcterms:modified>
  <cp:revision>14</cp:revision>
  <dc:subject/>
  <dc:title>Slide 1</dc:title>
</cp:coreProperties>
</file>