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BC1-5337-40FD-AA1D-D7E68EF8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ACD-0297-4228-8C0D-261A9E4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4DD-EB11-4C97-9DB7-A4425F3A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880-B4D1-4A7B-BF3A-4036B1EE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911-2F5C-48A6-B531-1E3AD1A1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1C0-3F15-45F7-AED8-9BDCEF5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0F6F-E775-49C1-86D8-0EA8CA6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46FB-6E85-4C4F-B41B-C9C10A2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8CA9-11E4-4C5E-ADF6-D1A7B562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304B-B729-465A-9023-3689D3AE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31DF-FBB0-4EE7-9F67-3D33AD10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156-CB34-4007-9C6E-AA02D6D5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D73-9537-4688-BBEE-8A67FF18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14A-8F13-4C17-9AF8-74A679A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35D9-3269-42A2-8FF2-3183306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A31-8B55-4E35-84D9-C428AF4D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47CF-6343-430F-9DA9-C3AD9677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D80-477B-4B47-AB16-81958D0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A10-8954-4120-BC27-768EDB1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685-1C93-47C2-B460-CC86741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260-3205-40EB-8C97-B2D95D9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4EB-807F-436E-A8BE-9D96645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8FA-59E0-4D08-8A51-5E01E95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418-C27E-4CFE-87DB-2370BCE2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9C06-20C8-4E20-8B59-17E1D362FA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C3B-44EC-4010-BD96-02E76BE2A5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ting the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48520" cy="506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on-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705360" cy="5303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at seasonal trend itself does not reveal as much as looking at the interplay betwe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Veloc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first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kinetic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ccel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second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potential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hase-plane diagr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ots acceleration against velo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urely sinusoidal trend, the plot would be an ellip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sition of a swinging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505320" y="1371600"/>
          <a:ext cx="662940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371600"/>
                    <a:ext cx="6629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196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three large loops separated by two small loops or cus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pring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id-January into Apr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ummer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y through Aug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all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October through Dec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ook at the years 1929-193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durable goods last less than two years: Food, clothing, cigarettes, alcohol, but not personal computer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ndurable goods manufacturing index is an indicator of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x has been published monthly by the US Federal Reserve Board since 19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mplements the durable goods manufacturing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29 through 193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ck market crash shows up as a large negative surge in velo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equent years nearly lose the fall production cycle, as people tighten their belts and spend less at Christ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in 1937-1938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37 and 193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sury Board, fearing that the economy was becoming overheated again, clamped down on the money supply.  The effect was catastrophic, and nearly wiped out the fall cyc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 crash was even more dramatic than that of 1929, but was forgotten because of the outbreak of World War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World War I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World War II, the seasonal cycle became very small, since the war, and the production that fed it, lasted all year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look at three pivotal years, 1974 to 1976, when the Vietnam War ended and the OPEC oil crisis happened.  Watch the shrinking of the fall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ant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important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overall trend in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look at the annual or seasonal behavior of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how the seasonal behavior changes over the years and with specific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e 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he last ten years the size of all three cycles have become much sma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variation now smoothed out by information 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 aging baby boomers spending l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ersonal computers, video games, and other electronic goods really dur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anufacturing now moved off sh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parate long- and medium-term trends from seasonal trends by smoo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reat ways to inspect seas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ivatives were used in two ways: to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enalize rough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reflect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nufactu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nds in Seas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ee by inspection that seasonal trends change systematically over time, and can also change abrup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irst estimate the principal components of seasonal variation, using a version of principal components analysis adapted to functional data, and sensitive only to effects periodic over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848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9246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g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mpon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ve sizes of spring and summer cycles (5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size of spring and summer cycles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of fall cycle (1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otting Component Sc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mpute scores at each year for these three principal components, sometimes called empirical orthogonal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evolution of these scores over the 51 years shows some interesting structural changes in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ap-u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ood for inspecting seasonal quasi-harmonic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analysis reveals main components of variation in seasonal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component scores shows how trend has evol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joint with work with James B. Ramsey, Dept. of Economics, New York University, and is reported 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, J. O. and Ramsey, J. B. (2001) Functional data analysis of the dynamics of the monthly index of non‑durable goods production.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con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07, 327‑3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ents and Tre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9 stock market cr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7 restriction of mon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4 end of Vietnam war, OPEC oil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rapid growth 1960-19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slow growth 1990 to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erm increase of 1.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volution of 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the years 1948 to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estimate long- and medium-term trend by spline smoothing, but with knots too far apart to capture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ubtract this smooth trend to leave only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8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523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represent the da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smooth cu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(t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ve should have at least two smooth derivatives.  We use spline smoothing, penalizing the size of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riva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14400" y="3733920"/>
          <a:ext cx="74674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733920"/>
                    <a:ext cx="746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914400" y="50292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nction Pspline in S-PLUS is available by ftp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.psych.mcgill.ca/pub/ramsay/FDAf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838080" y="1371600"/>
          <a:ext cx="73152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7315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years of typical trend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964-19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three peaks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is in the fall, peaking at the beginning of Octo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 point is mid-Dec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3:37:38Z</dcterms:created>
  <dc:creator>James Ramsay</dc:creator>
  <dc:description/>
  <dc:language>en-US</dc:language>
  <cp:lastModifiedBy>ramsay</cp:lastModifiedBy>
  <dcterms:modified xsi:type="dcterms:W3CDTF">2003-06-30T18:45:34Z</dcterms:modified>
  <cp:revision>21</cp:revision>
  <dc:subject/>
  <dc:title>PowerPoint Presentation</dc:title>
</cp:coreProperties>
</file>