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3E87-4FA8-4394-A8F5-1413429E5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ed picture of mouse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nk about interactive line at minut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ange title in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ange title in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ange title in matlab.  Better way to do interactive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D60-CB39-4BBA-A8D2-037926DA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13A-9EB3-496A-85B7-50198F77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99A-534E-4C57-8083-7F13F7A0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17B-D37E-4486-BE97-20D889A2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17F5-CF2C-4325-8F9F-0B67D1F3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E2F3-9926-4E96-B327-0CF99EAF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76EA-B417-4DDB-A6E2-B3DA618D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3471-1201-480C-AD85-37A190A3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B15E-61D8-44B1-A535-ECF05F46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A429-98A9-472C-B5EB-1C97E28E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1624-E071-475F-81C9-90C5D5AC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DE9-289B-4D8E-B369-A85D12E1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8E01-37E9-495A-B6F9-2AA89A2E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FD89-0736-4199-AA96-BDF54AFA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C1A7-2D29-4A69-A237-E00568BC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F0FF-5547-4333-9E05-E03C8EBD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4DFA-9711-411F-BE12-4EDE4C4D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458-87E5-4713-A1F5-181937DE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B60-4035-442C-BCD1-53FB8EB3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8E4-ED83-4460-89A3-526A8DB2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2CF-6525-45C9-B7C2-4C543471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178-7664-4E0C-8B55-642B0F20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61E-938C-495B-BE5F-DB3C0A6D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21D-CDEF-4532-A0A3-8BE217E5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6123-B57C-4E5E-8FE4-E24EDE3BC9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AD1E-DEA5-4CE2-B2CF-7306999160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Mouse Livers:</a:t>
            </a:r>
            <a:br>
              <a:rPr sz="4000"/>
            </a:b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Derivatives and Functional Linear Model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8400" y="1981080"/>
            <a:ext cx="486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777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n also do a functional linear model for derivative (rate of change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DA allows us to work with derivatives – which are closer to the mechanisms of the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708280"/>
            <a:ext cx="9144000" cy="64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X/dt =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A*B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ε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12000" y="691920"/>
            <a:ext cx="26748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“kicks in” earlier than does 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kicks in at minute 9, B at minute 1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hen together, see push only at minute 9 (from A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52563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76327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676908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at have we learn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reating a functional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moothing with basis expansions to reduce no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amining derivatives graphic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hase-plane pl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uilding functional linear mod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unctional regression coeffic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rivatives helpful here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How does cholesterol get metabolized in the liv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92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questions can we ask of the dat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5400720" cy="442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24360" y="1457280"/>
            <a:ext cx="331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hat does the real, “smooth” process look lik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o shapes differ among group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o rates of change differ among group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do the flow curves look like as functional object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64000" y="1773000"/>
            <a:ext cx="378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ook the derivative of the smoothed cur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till retain curve-to-curve variability, but now much smo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49690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I graphically explore the dat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35640" y="1125360"/>
            <a:ext cx="3457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a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flow curves x(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rate of change of flow curves Dx(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lot Dx(t) vs x(t). No longer an explicit function of tim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verlay time points on the curve for interpret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Gives information about how function is linked with its derivativ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5076720" cy="489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6920" y="981000"/>
            <a:ext cx="3456000" cy="10688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hase-Plane P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705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do we see in these phase-plane plot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75280" y="148392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ifference in curves between receptors and no recep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usps or ‘change-points’ when there are recep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inute 9 for Receptor A; Minute 15 for Receptor 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inute 9 for Both Receptors: Interactive Effec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5724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is the relationship between the covariates and response curv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response; Scalar predic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gression coefficients are funct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se basis expansion meth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1989000"/>
            <a:ext cx="4824720" cy="10688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Linear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306864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213000"/>
            <a:ext cx="87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08640"/>
            <a:ext cx="9144000" cy="64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X(t) =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A*B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ε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12000" y="476280"/>
            <a:ext cx="3132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ceptors affect steady st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 stronger than 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ffects strongest after minute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and B have inhibitory relationship after minute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5688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12000" y="476280"/>
            <a:ext cx="3132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ceptors affect steady st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 stronger than 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ffects strongest after minute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and B have inhibitory relationship after minute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58327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5:02:12Z</dcterms:created>
  <dc:creator>nuzzo</dc:creator>
  <dc:description/>
  <dc:language>en-US</dc:language>
  <cp:lastModifiedBy>J. O. Ramsay</cp:lastModifiedBy>
  <dcterms:modified xsi:type="dcterms:W3CDTF">2004-02-23T18:27:52Z</dcterms:modified>
  <cp:revision>17</cp:revision>
  <dc:subject/>
  <dc:title>Mouse Livers: Derivatives and Functional Linear Models</dc:title>
</cp:coreProperties>
</file>