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4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7.wmf" ContentType="image/x-wmf"/>
  <Override PartName="/ppt/media/image32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12.wmf" ContentType="image/x-wmf"/>
  <Override PartName="/ppt/media/image27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2232-D03E-4B2A-9D45-4AEA19469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D0E-3AF1-4163-B195-EECF33D9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4ED-4220-412E-B0F0-0C747F61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5E08-CB7C-40DE-BE26-88538052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7B9-04A6-4C32-9202-240DF84C5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FEB-02B1-4C01-B1B0-C646F9D8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6E02-21A0-4470-93AA-FFA43691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60A8-8E2E-463A-A46D-118AC5F45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2C7-7BCA-4E4C-AB4E-94448047A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2B3-4AE1-4D72-A9B0-2462302B4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9381-9B39-400F-BB6D-1C18287E2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5F3-9D5F-4C20-B3C3-160E2C19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E7C-BFA9-4101-887F-3FC38BDBC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16E-A1E5-4D52-B42B-C99EA23F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C87D-12DD-4BAB-BF10-D02920C9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DB14-1C56-45C5-8176-4DD628E9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32E-1A84-43C1-A098-3DCD0C5A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6080-9AA0-4EF2-90A3-4F56B744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9A9-3A2E-479B-AA2C-322F2371B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F3D5-EB64-4313-B643-696CDB5D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C39-5C9B-4657-9CFB-F5320EBF9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5D96-5402-44C8-A909-CE471165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084B-A833-48CC-A9FE-6133F42D2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DA8-5F1B-40C3-9687-D97217D2D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7078-3181-46F5-93F8-896A7E5D4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F040-C840-4BFE-8305-56C71F20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F0F7-E917-407E-BB36-B5918400B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293A-6905-4D00-8B5F-02DD794B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7D8-C666-4991-8339-F7A6E9099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9C65-FA68-4F72-89D2-2B2BD698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F6FC-D4A8-416A-911E-334D66B36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F75A-52C0-4B2A-94AA-1B5884937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06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0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146160"/>
            <a:ext cx="861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906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0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146160"/>
            <a:ext cx="861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60948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4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3043080" cy="457200"/>
          </a:xfrm>
          <a:prstGeom prst="rect">
            <a:avLst/>
          </a:prstGeom>
          <a:solidFill>
            <a:srgbClr val="b5c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560" y="6400800"/>
            <a:ext cx="3043440" cy="45720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0920" y="6400800"/>
            <a:ext cx="3043080" cy="457200"/>
          </a:xfrm>
          <a:prstGeom prst="rect">
            <a:avLst/>
          </a:prstGeom>
          <a:solidFill>
            <a:srgbClr val="da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1371600" cy="422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8862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47 Condensed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5880" y="6384960"/>
            <a:ext cx="28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99 –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nsightful Corporation,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043080" cy="1143000"/>
          </a:xfrm>
          <a:prstGeom prst="rect">
            <a:avLst/>
          </a:prstGeom>
          <a:solidFill>
            <a:srgbClr val="b5c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560" y="0"/>
            <a:ext cx="3043440" cy="114300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00920" y="0"/>
            <a:ext cx="3043080" cy="1143000"/>
          </a:xfrm>
          <a:prstGeom prst="rect">
            <a:avLst/>
          </a:prstGeom>
          <a:solidFill>
            <a:srgbClr val="da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4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57800"/>
            <a:ext cx="3035160" cy="11430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257800"/>
            <a:ext cx="3043080" cy="11430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00920" y="5257800"/>
            <a:ext cx="3043080" cy="1143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553080"/>
            <a:ext cx="876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Copyright </a:t>
            </a:r>
            <a:r>
              <a:rPr b="1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1999 – 2005 Insightful Corporation,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95480" y="1739880"/>
            <a:ext cx="350532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0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48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+FDA: Tools for Functional Data Analysi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im Ramsa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cGill Universit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gust,  2005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heigh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eight curves are pretty smoo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 we can see the increase in slope during the pubertal growth spur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we look closely, we can see that timing of the pubertal growth varies a lo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residuals are about what we expect for growth measurements, and we have the right balance between smoothness and data fi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38080" y="-304920"/>
          <a:ext cx="769644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-304920"/>
                    <a:ext cx="769644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447920" y="54100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HgtFd &lt;- fVector(fHgtFd, linDop=fDop(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fDHgt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veloci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the peak in velocity during the pubertal growth spurt is clearly visible in each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 is its variation in tim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d now we see something happening before the pubertal growth spurt for most curve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looks like a small preliminary growth spurt, called th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id spur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-285840"/>
          <a:ext cx="784872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285840"/>
                    <a:ext cx="784872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754280" y="5257800"/>
            <a:ext cx="62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2HgtFd &lt;- fVector(fHgtFd, linDop=fDop(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fD2Hgt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accelerat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enter of the pubertal growth spurt is indicated by where the acceleration curve crosses zero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centers range from 9 to 14 years of ag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acceleration curves are a bit unstable at 18 years, where they should go to zero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t’s look at the mean acceleration over the pubertal growth spur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-3808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08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nt wrong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mean curve in red is a terrible summary of the actual curves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has less amplitude than any single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d lasts longer as well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urves show two types of variation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plitude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variation in the magnitudes of the peaks and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variation in ages or timings of peaks and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registration challeng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ke most familiar data summaries, the mean is designed to summarize only amplitude variation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curve should be doing the “same thing” at each point in time in order for the mean to work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we find a way to transform time so that the pubertal growth spurts all take place at the same “biological age?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phase-plane plo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 far we have looked at how height, velocity and acceleration vary over ag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 how do they vary with respect to each other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t’s plot acceleration against velocity, for examp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7 software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nctional data analysi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unctional data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functional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look at heights of growing girls: a sample of functional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 do I put discrete data into functional form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ndurable goods data: a single long multi-layered functional observ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terature and Software Referenc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do we see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curve begins in the lower right, where velocity is high and acceleration is strongly negative.  This is early childhoo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n the passes through a loop, and continues moving the the upper left, where velocity and acceleration become near zero at adulthoo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urves are remarkably coherent once in the loop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ergy transf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moving bodies, there are two kinds of energy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high velocity, where energy can be transferred to another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tenti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 acceleration, where energy is being absorbed from an external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we plot the acceleration of a pendulum or spring against its velocity, we see an ellipse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ergy is being transferred back and forth between these two state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781200"/>
            <a:ext cx="7391160" cy="5543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ition of a swinging pendul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a pendul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78120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does the loop mean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ubertal growth spurt is a time where growth energy is being transferred between these two states, before it disappears altogeth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loops are remarkably coherent, and phase variation has all but disappear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we have a direct view of th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dynamic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f grow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dynamics of growth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hase-plane plots displays one of the relationships holding among the derivatives of heigh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ations involving derivatives are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differential equation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ations of this nature model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chang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or the dynamics of a system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nctional data analysis can involve dynamical model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do we estimate these height functions from noisy height data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tructing funct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need a method for constructing functions that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t any curve, no matter how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ives us infinite control over 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assures smoothness in one or more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functional building block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asis function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basis function expans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K functional building blocks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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k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(t)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are combined linearly to construct the function x(t) that we need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470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w in 2005 from Insightfu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S-PLUS 7 Platfor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7 - Desktop, Server, Insightful-Miner,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fe Sciences Application Modul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+ArrayAnalyzer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Clinical Pack for SAS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Clinical Reporting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ightful Safety M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ancial Services Application Modul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+Finmetrics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Opt 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earch Librari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nctional Data Analysis (S+F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yesian modeling (S+Ba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-spline basis funct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-spline basis functions are usually used where the data are not periodic or stationar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interval is divided into sub-intervals by value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reak-point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knot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tween break-points the curve is a polynomial of specified degree. (order = degree + 1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ross break-points all but the highest non-trivial derivatives are continuou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basis for the height da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084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smooth acceleration curves (2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erivative)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polynomials of degree 5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reak-points are at each time of observ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5080" y="3048120"/>
            <a:ext cx="65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gtBasis = bsplineBasis(fDomain=c(1,18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asis=35, norder=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=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-304920"/>
          <a:ext cx="891540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4920"/>
                    <a:ext cx="89154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20348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488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heightBasis, cex=cexval, lty=1, lwd=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lab="Age (cm)", ylab="Basis function value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="B-spline Basis Function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ughness penalti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order to control smoothness, we define a measure of roughnes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nce we want smooth acceleration curves, we ask that the curvature of acceleration be controll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total curvature of acceleration i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5334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final step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we put the fitting criterion, in this case error sum of squares, together with the roughness penalty to get a composite criter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5004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moothing paramet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controls the trade-off between fitting the data and having a smooth function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.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small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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more closely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fits the data, but the rougher it will b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larg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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smoother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will be, and it will ultimately be forced to fit the data with a polynomial of degree 3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S-PLUS FDA co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HgtPenalty &lt;- list(lambda=0.05,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nDop=fDop(4))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HgtFd &lt;- fVector(heightBasis, fHgt,  age,     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nalty=fHgtPenalty 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about a single long functional observation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Nondurable Goods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78120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ndurable goods last less than two years: Food, clothing, cigarettes, alcohol, but not personal computers!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ndurable goods manufacturing index is an indicator of the economics of everyday lif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index has been published monthly by the US Federal Reserve Board since 1919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complements the durable goods manufacturing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76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durabl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Enterprise development environment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Workbench - Eclipse IDE, interfaces with source-code control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peline architecture for scalable performanc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, manipulate and analyze gigabyte-class datasets on commodity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istical technique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effects for non-normal data, mixed effects surviv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aphical analysis e.g. Trellis on large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egrate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pen architecture, APIs and serv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dvanced statistical methods, where and how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-PLUS 7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only statistical software offering both rapid prototyping and analysis of large data sets integrated across the enterpris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want to do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ok at important even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amine the overall trend in the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ve a look at the annual or seasonal behavior of the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derstand how the seasonal behavior changes over the years and with specific even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log nondurable goods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vents and Trend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hort term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9 stock market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7 restriction of money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4 end of Vietnam war, OPEC oil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dium term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ly rapid growth 1960-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ly slow growth 1990 to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ng term increase of 1.5% per ye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evolution of 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focus on the years 1948 to 1999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estimate long- and medium-term trend by spline smoothing, but with knots too far apart to capture seasonal tren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subtract this smooth trend to leave only seasonal tren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85800" y="762120"/>
          <a:ext cx="7696080" cy="55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69608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1536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ree years of typical trend: 1964-196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ypically three peaks per ye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largest is in the fall, peaking at the beginning of Octob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low point is mid-Decemb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766800"/>
            <a:ext cx="6858000" cy="5557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-seasonal trend is in re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6934320" cy="5484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asonal trend = data – non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895480" y="914400"/>
          <a:ext cx="708660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914400"/>
                    <a:ext cx="70866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64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149760" y="1143000"/>
            <a:ext cx="4187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re are three large loops separated by two small loops or cusps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ring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id-January into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mer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y through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ll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ctober through Dec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look at the years 1929-1931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t’s take a look at some functional da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55480" y="708120"/>
          <a:ext cx="782640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708120"/>
                    <a:ext cx="782640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380880" y="722160"/>
          <a:ext cx="8153640" cy="57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22160"/>
                    <a:ext cx="815364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642960"/>
          <a:ext cx="769608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42960"/>
                    <a:ext cx="7696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929 through 1931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stock market crash shows up as a large negative surge in veloci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bsequent years nearly lose the fall production cycle, as people tighten their belts and spend less at Christma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76320" y="762120"/>
          <a:ext cx="8534160" cy="54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2120"/>
                    <a:ext cx="8534160" cy="54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940120" y="763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ing World War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uring World War II, the seasonal cycle became very small, since the war, and the production that fed it, lasted all year lo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look at three pivotal years, 1974 to 1976, when the Vietnam War ended and the OPEC oil crisis happened.  Watch the shrinking of the fall cyc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40120" y="763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ing World War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609480"/>
          <a:ext cx="777240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609480" y="685800"/>
          <a:ext cx="7543800" cy="56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57200" y="704880"/>
          <a:ext cx="77724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4880"/>
                    <a:ext cx="77724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about today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7200" y="70488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488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se day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ver the last ten years the size of all three cycles have become much small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variation now smoothed out by information techn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aging baby boomers spending l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rsonal computers, video games, and other electronic goods really dur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ufacturing now moved off sh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can separate long- and medium-term trends from seasonal trends by smooth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ase-plane plots are great ways to inspect seasonali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rivatives were used in two ways: to penalize roughness, and to reflect the dynamics of manufactur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ique Aspects of Functional Data Analysi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rocesses generating the data are smooth, so that we can use derivatives in various way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vents in functional data occur over different time scale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 itself may be an elastic medium, and vary over functional observation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fferential equations can play a big ro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nding out Mor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rkson, D. B., Fraley, C., Gu, C. C. and Ramsay, J. O. (2005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S+Functional Data Analysis User’s Guid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 Springer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msay, J. O. and Silverman, B. W. (2005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unctional Data Analysi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Second Edition. Spring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msay, J. O. and Silverman, B. W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002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pplied Functional Data Analysi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Spring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t the FDA website: www.functionaldata.or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Enterprise development environment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Workbench - Eclipse IDE, interfaces with source-code control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peline architecture for scalable performanc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, manipulate and analyze gigabyte-class datasets on commodity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istical technique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effects for non-normal data, mixed effects surviv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aphical analysis e.g. Trellis on large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egrate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pen architecture, APIs and serv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dvanced statistical methods, where and how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-PLUS 7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only statistical software offering both rapid prototyping and analysis of large data sets integrated across the enterpris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ug Discovery Solutions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ArrayAnalyzer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array data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Biomarker Analysis and Pharmacogenomic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rogate endpoints, oversampl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Gen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genetics, SNP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High Throughput Screening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 screening, rigorous QC and hit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-PLUS Server for DecisionSite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pot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562720" y="1143000"/>
            <a:ext cx="20066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22504" t="1250" r="22504" b="1250"/>
          <a:stretch/>
        </p:blipFill>
        <p:spPr>
          <a:xfrm>
            <a:off x="6019920" y="1905120"/>
            <a:ext cx="205092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23441" t="3751" r="23441" b="3751"/>
          <a:stretch/>
        </p:blipFill>
        <p:spPr>
          <a:xfrm>
            <a:off x="6516720" y="2743200"/>
            <a:ext cx="2009880" cy="26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23441" t="1250" r="23441" b="1250"/>
          <a:stretch/>
        </p:blipFill>
        <p:spPr>
          <a:xfrm>
            <a:off x="7053120" y="3429000"/>
            <a:ext cx="1992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ug Discovery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ArrayAnalyz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array 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Biomarker Analysis and Pharmacogenom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rogate endpoints, oversampled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Ge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genetics, SNPs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High Throughput Scre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 screening, rigorous QC and hi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-PLUS Server for DecisionSi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pot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562720" y="1143000"/>
            <a:ext cx="20066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22504" t="1250" r="22504" b="1250"/>
          <a:stretch/>
        </p:blipFill>
        <p:spPr>
          <a:xfrm>
            <a:off x="6019920" y="1905120"/>
            <a:ext cx="205092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23441" t="3751" r="23441" b="3751"/>
          <a:stretch/>
        </p:blipFill>
        <p:spPr>
          <a:xfrm>
            <a:off x="6516720" y="2743200"/>
            <a:ext cx="2009880" cy="26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4"/>
          <a:srcRect l="23441" t="1250" r="23441" b="1250"/>
          <a:stretch/>
        </p:blipFill>
        <p:spPr>
          <a:xfrm>
            <a:off x="7053120" y="3429000"/>
            <a:ext cx="1992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3352680" y="5029200"/>
            <a:ext cx="54864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Slogo" descr=""/>
          <p:cNvPicPr/>
          <p:nvPr/>
        </p:nvPicPr>
        <p:blipFill>
          <a:blip r:embed="rId5"/>
          <a:stretch/>
        </p:blipFill>
        <p:spPr>
          <a:xfrm>
            <a:off x="3416400" y="5132520"/>
            <a:ext cx="5357880" cy="658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28320" y="5805360"/>
            <a:ext cx="428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7 Condensed"/>
              </a:rPr>
              <a:t>2004 Innov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437080" y="1219320"/>
            <a:ext cx="2125800" cy="282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30492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nical Development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sightful Safety 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clinical / safety data management, analysis and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Clinical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A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Clinical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ed graphical and tabular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+Seq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 clinical tri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Vali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S-PLUS for 21 CFR11/Gx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775480" y="1811160"/>
            <a:ext cx="2073240" cy="28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110280" y="2338560"/>
            <a:ext cx="204300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4"/>
          <a:srcRect l="23441" t="7501" r="23441" b="1250"/>
          <a:stretch/>
        </p:blipFill>
        <p:spPr>
          <a:xfrm>
            <a:off x="6527880" y="2871720"/>
            <a:ext cx="21286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6858000" y="3535200"/>
            <a:ext cx="2028960" cy="27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3876840"/>
            <a:ext cx="4419720" cy="29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3876840"/>
            <a:ext cx="4495680" cy="29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600120"/>
            <a:ext cx="4495680" cy="31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0120"/>
            <a:ext cx="4419720" cy="31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477120" y="5369040"/>
            <a:ext cx="2057400" cy="1031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34120" y="5018040"/>
            <a:ext cx="1828800" cy="10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5791320" y="1757520"/>
          <a:ext cx="187632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7520"/>
                    <a:ext cx="18763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351080" y="4343400"/>
          <a:ext cx="1457280" cy="12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1080" y="4343400"/>
                    <a:ext cx="14572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28600" y="1219320"/>
          <a:ext cx="2438280" cy="13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219320"/>
                    <a:ext cx="24382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391520" y="1986120"/>
          <a:ext cx="1676160" cy="13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1986120"/>
                    <a:ext cx="16761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6248520" y="4419720"/>
            <a:ext cx="20574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1960560" y="4800600"/>
          <a:ext cx="1316160" cy="111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60560" y="4800600"/>
                    <a:ext cx="13161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1752480" y="2209680"/>
            <a:ext cx="190512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6324480" y="1071720"/>
          <a:ext cx="2438640" cy="111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1071720"/>
                    <a:ext cx="24386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943600" y="38862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liance and Reporting,                Value at Risk &amp; Base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619200"/>
            <a:ext cx="3504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rtfolio Construction, Analysis, Back-testing, Optimization and Risk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962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nterprise Reporting and Visu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428920" y="1081080"/>
          <a:ext cx="1457280" cy="12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28920" y="1081080"/>
                    <a:ext cx="14572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12640" y="4648320"/>
          <a:ext cx="1524240" cy="12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2640" y="4648320"/>
                    <a:ext cx="1524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274760" y="5114880"/>
          <a:ext cx="1219320" cy="1057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74760" y="5114880"/>
                    <a:ext cx="12193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0" y="660240"/>
            <a:ext cx="2895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nancial Time Series  and Vendor Data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96880"/>
            <a:ext cx="1447920" cy="21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apital 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u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redit/Lo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2971800"/>
            <a:ext cx="3429000" cy="457200"/>
          </a:xfrm>
          <a:prstGeom prst="wedgeRectCallout">
            <a:avLst>
              <a:gd name="adj1" fmla="val -41527"/>
              <a:gd name="adj2" fmla="val -1791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, analyze and transform financial time series data through visual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Generate derived data like returns or volatili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29240" y="2933640"/>
            <a:ext cx="4190760" cy="304920"/>
          </a:xfrm>
          <a:prstGeom prst="wedgeRectCallout">
            <a:avLst>
              <a:gd name="adj1" fmla="val -16703"/>
              <a:gd name="adj2" fmla="val 562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 new strategies &amp; products;                       Create Create optimal portfolio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oy new models and products to the enterprise; Value and manage risk on existing port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6248520"/>
            <a:ext cx="4191120" cy="457200"/>
          </a:xfrm>
          <a:prstGeom prst="wedgeRectCallout">
            <a:avLst>
              <a:gd name="adj1" fmla="val -9736"/>
              <a:gd name="adj2" fmla="val 95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 reporting &amp; graphics to share information with the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62440" y="6400800"/>
            <a:ext cx="4572000" cy="457200"/>
          </a:xfrm>
          <a:prstGeom prst="wedgeRectCallout">
            <a:avLst>
              <a:gd name="adj1" fmla="val -1143"/>
              <a:gd name="adj2" fmla="val 70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state of the art simulations and econometrics to determine VaR and reduce capital reserv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12120" y="14400"/>
            <a:ext cx="50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in Financi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heights of girl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9 measurements over ages 1 to 18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s are not equally spac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ypical errors of measurement from 7 mm in infancy to 3 mm in adolescenc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a smooth curve estimated from each child’s discrete data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locity and acceleration will tell us a lot about the dynamics of grow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makes these data functional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can assume that children grow smoothly, and therefore that growth can be expressed as a smooth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think of an entire curve as a single unitary observ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to understand the shape of the curve, and also its rate of change, or velocity, and perhaps its acceler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21:15:43Z</dcterms:created>
  <dc:creator>David Smith</dc:creator>
  <dc:description/>
  <dc:language>en-US</dc:language>
  <cp:lastModifiedBy>Jim Ramsay</cp:lastModifiedBy>
  <dcterms:modified xsi:type="dcterms:W3CDTF">2005-08-15T18:34:13Z</dcterms:modified>
  <cp:revision>131</cp:revision>
  <dc:subject/>
  <dc:title>PowerPoint Presentation</dc:title>
</cp:coreProperties>
</file>