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6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5.png" ContentType="image/png"/>
  <Override PartName="/ppt/media/image9.wmf" ContentType="image/x-wmf"/>
  <Override PartName="/ppt/media/image34.wmf" ContentType="image/x-wmf"/>
  <Override PartName="/ppt/media/image12.wmf" ContentType="image/x-wmf"/>
  <Override PartName="/ppt/media/image4.png" ContentType="image/png"/>
  <Override PartName="/ppt/media/image2.png" ContentType="image/png"/>
  <Override PartName="/ppt/media/image10.wmf" ContentType="image/x-wmf"/>
  <Override PartName="/ppt/media/image30.wmf" ContentType="image/x-wmf"/>
  <Override PartName="/ppt/media/image32.wmf" ContentType="image/x-wmf"/>
  <Override PartName="/ppt/media/image31.wmf" ContentType="image/x-wmf"/>
  <Override PartName="/ppt/media/image7.jpeg" ContentType="image/jpeg"/>
  <Override PartName="/ppt/media/image11.wmf" ContentType="image/x-wmf"/>
  <Override PartName="/ppt/media/image3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F39A-8733-4220-BA1F-0A1B8B9BC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1606-9F07-4716-B276-86C56A491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-sensitive help is provided at every stage, and all 8 pri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als are also available to be browsed and searched on-line as 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.  S-PLUS's open design makes it easy to work with your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as well: for example, you can cut-and-paste 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ght from S-PLUS into applications like Word or Excel, and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 data from more than 20 different data sources, including ASCI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, SAS, Oracle, SQL Server, and Bloombe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C95C-0EB6-4EAB-B5A7-D5BFB0BB9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d with the ease of creating your graph with an inter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 is the security of knowing you can easily aut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of the graphics you create for new data sets or upd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-- just drag and drop the graph into a Script file to creat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 to instantly re-create the graph when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DC64-8E3D-4308-8170-B09F9EDFA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7121F-D1D3-463E-AFCF-895EF367C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1885-3A6C-4222-8709-35ECA97DC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A635-A7D0-40E1-8053-30A6B0551B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EAF9-FB0D-41BA-B612-EF32A14012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87DF-0B9D-45D0-AB3D-6C41A8A00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63AD-E5F7-4FED-BF18-47DE3EBF1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F6DC-44F0-4452-A97B-504E4E634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DDF4-A728-4198-9261-A89697166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0758-896A-478D-BA48-755A62038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6582-D4B8-44E5-BF4A-14A2DC2EE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21806-E483-4EE7-A7F1-9E50F9AFA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6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Univers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Univers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Univers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Univers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Univers 57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A1D6-07C1-4D0C-BE1E-178317A56622}" type="slidenum">
              <a:rPr b="1" lang="en-US" sz="1400" spc="-1" strike="noStrike">
                <a:solidFill>
                  <a:srgbClr val="000000"/>
                </a:solidFill>
                <a:latin typeface="Univers 57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4008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Insightful Corporation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3532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1752480"/>
            <a:ext cx="7696080" cy="0"/>
          </a:xfrm>
          <a:prstGeom prst="line">
            <a:avLst/>
          </a:prstGeom>
          <a:ln w="936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58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faculty.washington.edu/ezivot" TargetMode="External"/><Relationship Id="rId3" Type="http://schemas.openxmlformats.org/officeDocument/2006/relationships/hyperlink" Target="http://faculty.washington.edu/ezivot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insightful.com/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S+FinMetrics™ 2.0: Advancing the State of the Art in Modeling Financial Time Serie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c Z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 Professor of Economic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nct Professor of Fina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Waterman Distinguished Sch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2CFB-D000-4849-9115-FDB464EE9A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Applications in Finance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S-PLUS / S+FinMetrics™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 in S+FinMetrics™ 2.0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plications of S+FinMetrics™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tting Bivariate Copulas for Asset Return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Regime Switching Behavior in Return Volatility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ng and Fitting Continuous-Time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/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7E92-15E7-40DA-BBCB-8C74E31959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Fitting Bivariate Copulas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to Daily Returns on BMW and Siemen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5438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7F9D-15B5-41EE-B9F7-E5E8DA2490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Marginal pdfs </a:t>
            </a:r>
            <a:r>
              <a:rPr b="1" i="1" lang="en-US" sz="3600" spc="-1" strike="noStrike">
                <a:solidFill>
                  <a:srgbClr val="808080"/>
                </a:solidFill>
                <a:latin typeface="Arial"/>
              </a:rPr>
              <a:t>are not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Normal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31520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C339-76B8-4235-BE2E-87C11C7958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Joint pdf </a:t>
            </a:r>
            <a:r>
              <a:rPr b="1" i="1" lang="en-US" sz="3200" spc="-1" strike="noStrike">
                <a:solidFill>
                  <a:srgbClr val="808080"/>
                </a:solidFill>
                <a:latin typeface="Arial"/>
              </a:rPr>
              <a:t>is not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Multivariate Normal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543800" cy="4191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1828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≈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0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0D74-B7DF-4CBE-A99E-CD8DBB0DA5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Dependence Modeling with Copula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pu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ultivariate pdfs with uniformly distributed mar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pu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a simple way to create general multivariate pdf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Specify Marginal pdf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Pick Copula to Capture Dependence Structure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Use Sklar’s Theorem to Couple Margins with Copula to Create Multivariate pdf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+FinMetrics/EVANESCE has 18 parametric bivariate cop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D35E-5526-4E11-AD03-AF90C047FB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Fit Semi-Parametric Generalized Pareto Distribution Margin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CE5B-BF58-46A2-96E7-42ABE269F6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Bivariate pdf with Independent GPD Margin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E840-2B6C-46AE-A89F-9F5E2A369E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Empirical Copul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7732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1A05-ECB5-4251-8A62-5F7B30789D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Normal Copula with </a:t>
            </a:r>
            <a:r>
              <a:rPr b="1" lang="en-US" sz="3600" spc="-1" strike="noStrike">
                <a:solidFill>
                  <a:srgbClr val="808080"/>
                </a:solidFill>
                <a:latin typeface="Symbol"/>
                <a:ea typeface="Symbol"/>
              </a:rPr>
              <a:t>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= 0.7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C22D4-AA16-4F3D-AD6D-084B9FF800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Independent, Normal, Gumbel and Clayton Copulas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2D2D-CAAC-4261-A6BC-AE166A842C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Applications in Finance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S-PLUS / S+FinMetrics™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 in S+FinMetrics™ 2.0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of S+FinMetrics™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ting Bivariate Copulas for Asset Return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Regime Switching Behavior in Return Volatility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ng and Fitting Continuous-Time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/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2866-8BC3-4CD0-8DFB-B5DB81310A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Fit Normal Copula by Two-Step Maximum Likelihood Method (IFM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057400"/>
            <a:ext cx="792504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gt; cop.normal.fit = </a:t>
            </a:r>
            <a:r>
              <a:rPr b="1" lang="en-US" sz="2000" spc="-1" strike="noStrike">
                <a:solidFill>
                  <a:srgbClr val="00cc00"/>
                </a:solidFill>
                <a:latin typeface="Courier New"/>
              </a:rPr>
              <a:t>fit.copula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(empcop.b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+                  family = "normal", plot = 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gt; cop.normal.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t Bivariate Copula by MLE -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-likelihood value:  15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rmal copula fami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ameter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ta  =  0.6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ameter Estimates, Standard Errors and t-rati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 Std.Error  t va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ta   0.6567   0.0065  101.05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DFF5-8FEC-42CD-8D70-BFA81F9BB3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MLE vs. Empirical Copul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010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F0EC-7512-453D-A9A5-43DDA45B61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Actual vs. Simulated Return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059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0CCC-A49B-4128-B910-4DD396325D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Model Comparison is Easy!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057400"/>
            <a:ext cx="86104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gt; </a:t>
            </a:r>
            <a:r>
              <a:rPr b="1" lang="en-US" sz="2000" spc="-1" strike="noStrike">
                <a:solidFill>
                  <a:srgbClr val="00cc00"/>
                </a:solidFill>
                <a:latin typeface="Courier New"/>
              </a:rPr>
              <a:t>compare.copulaFit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(cop.normal.fit, cop.gumbel.f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like       AIC       BIC        H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p.normal.fit 1510.050 -3018.100 -3011.516 -3015.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p.gumbel.fit 1410.845 -2819.689 -2813.104 -2817.3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2BC2-E2C3-49BA-8A2B-8CB429DBB2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Applications in Finance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S-PLUS / S+FinMetrics™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 in S+FinMetrics™ 2.0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plications of S+FinMetrics™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ting Bivariate Copulas for Asset Return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deling Regime Switching Behavior in Return Volatility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ng and Fitting Continuous-Time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/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7F04-F6E1-48F9-9297-2A52A5CD27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Weekly Realized Volatility of QQQ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59C7-1324-47F9-976C-CEC05AB477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Nonlinear Regime Switching Model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me Switching Based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ser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itio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Self-Exciting Threshold Autoregression (SETAR)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Smooth Transition Autoregressive (STAR)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me Switching Based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obser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itio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Markov Switching Autoregressive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Markov Switching State Space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7B4E-7449-4E90-B49C-90D7D93A23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TAR Model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43000" y="2209680"/>
          <a:ext cx="67816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67816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CCF0-6AC9-4CC5-A10D-CCAD405C84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TAR Model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1752480"/>
          <a:ext cx="647676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64767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85800" y="2362320"/>
            <a:ext cx="769608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B158-5562-489B-9538-59DAA8094C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Estimated Regime Indices from 3-Regime TAR Model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77FE-0206-4B1A-A853-DAD95FCA66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Typical Applications in Financ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risk and derivative val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 financia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program trading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 multivariate macroeconomic and financial 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testing regression and other generic analytic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 daily volatilities and correlations for asset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E989-745A-4013-BD3F-F53E2C8274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Markov Switching AR Model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3880" y="2314440"/>
          <a:ext cx="6096240" cy="35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14440"/>
                    <a:ext cx="6096240" cy="35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9A63-5613-418F-BA9D-EFB6A068255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Estimated Regime Probabilities from 2-Regime MS-AR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9608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122E-0C65-4D79-8D9E-CB4AD0372BE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Simulated Predictions of Volatility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3809880" cy="2943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3809880" cy="2476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52480" y="51814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38098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3962520"/>
            <a:ext cx="3809880" cy="2514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867280" y="64008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S-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08B9-7C56-4CF1-8B29-ADB32660E55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Applications in Finance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S-PLUS / S+FinMetrics™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 in S+FinMetrics™ 2.0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plications of S+FinMetrics™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ting Bivariate Copulas for Asset Return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Regime Switching Behavior in Return Volatility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mulating and Fitting Continuous-Time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/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E399-632D-4122-932B-A900E2BB886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ontinuous Time Models in Finance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619280" y="2044800"/>
          <a:ext cx="59040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044800"/>
                    <a:ext cx="59040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9A32-AB30-4772-AE46-BA1F7CDDF62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ontinuous Time Models in Finance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66680" y="2666880"/>
          <a:ext cx="7086600" cy="9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66880"/>
                    <a:ext cx="70866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762120" y="1981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te variables are determined by solving the S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4114800"/>
            <a:ext cx="754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re regarded as discretely sampled observations from part of the abov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 of the observed process is generally not available in closed form – M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not fea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2B82-B9CB-4DB3-9E44-D223ADE388A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3 Month U.S. T-Bill Rate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5800" y="1752480"/>
          <a:ext cx="76201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201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29B3-95AF-4033-9ED2-89AD180ADD1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tochastic Volatility Model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52680" y="2508120"/>
          <a:ext cx="626580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2680" y="2508120"/>
                    <a:ext cx="626580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62120" y="1981080"/>
            <a:ext cx="601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ed CIR model for short r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4800600"/>
            <a:ext cx="65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ersen, T. and J. Lund (1997). "Estimating Continuous-Time Stochastic Volatility Models of the Short-term Interest Rate,"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ournal of Econometr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EC0F-0ADC-4ADF-8CD6-187C6CEBC14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imulate GCIR Proces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905120"/>
            <a:ext cx="82296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# calibrate to estimates obtained by Andersen and L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 rho.gcir = c(0.082,6.279,0.670,0.67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 rho.gcir.names = c("k","mu","sigma","gamma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 ird.gcir.aux =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uler.pcode.au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rift.expr=expression(k*(mu-X)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              diffuse.expr=expression(sigma*X^gamma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              rho.names = rho.gcir.nam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              t.per.sim = 1/52, ndt = 25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              seed = 123, X0 = 6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              lbound=0,ubound=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 gcir.sim =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uler1d.pcode.gensi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rho.gcir,n.sim=2000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          n.var=1,n.burn=1000,aux=gcir.a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1F73-C1DA-4F9D-A74B-74DF61B162A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imulated GCIR Proces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2120" y="1752480"/>
          <a:ext cx="761976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61976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7BF3-2228-4ED0-AF77-8DFADEA2EAE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What is S-PLUS?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emier solution for exploratory data analysis and statistical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oint-and-click to import various data formats, select statistical functions and displa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 4,200 data analysis functions, including the most comprehensive set of robust and moder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 existing methods or develop new ones with the award-winning S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owerful, interactive graph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90C7-FD2C-47DF-BE98-D474A79F65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Estimation by GMM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 Population Moment Conditions from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Parameters by Equating Sample Moments to Population Mo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re Moments than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Use weighted average of moment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Model validity can be tested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Less Efficient than M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DB4C-D5BB-48CC-93A5-26F1C160213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Estimation by EMM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631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0B97-2E50-4C16-9BF4-092A9646290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Advantages of EMM over GMM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M automatically generates moments from SNP auxiliar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GMM requires user-specified moment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M uses moments that mimic infeasible M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GMM uses arbitrary moment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M provides model diagnostics for each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GMM only provides model diagnostic based on weighted average of all moment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71A9-B510-49D0-8C2F-DBB322A6B29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EMM Estimation of GCIR Model for T-Bill Rates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7A13-4371-4A36-A234-418D1BCA24E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ontact Information/ Reference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c Zivot (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faculty.washington.edu/eziv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Zivot, E. and J. Wang (2002). </a:t>
            </a:r>
            <a:r>
              <a:rPr b="0" i="1" lang="en-US" sz="2400" spc="-1" strike="noStrike">
                <a:solidFill>
                  <a:srgbClr val="000000"/>
                </a:solidFill>
                <a:latin typeface="Univers 57 Condensed"/>
              </a:rPr>
              <a:t>Modeling Financial Time Series with S-PLUS</a:t>
            </a: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, Springer-Verlag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Zivot, E. and J. Wang (2005). </a:t>
            </a:r>
            <a:r>
              <a:rPr b="0" i="1" lang="en-US" sz="2400" spc="-1" strike="noStrike">
                <a:solidFill>
                  <a:srgbClr val="000000"/>
                </a:solidFill>
                <a:latin typeface="Univers 57 Condensed"/>
              </a:rPr>
              <a:t>Modeling Financial Time Series with S-PLUS</a:t>
            </a: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Univers 57 Condensed"/>
              </a:rPr>
              <a:t>Second Edition</a:t>
            </a: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, Springer-Verlag forthcoming.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ghtful Corporation (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5"/>
              </a:rPr>
              <a:t>www.insightful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Sales, Consulting, Training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52AD-AFD0-4F9B-85CA-D8EE4582C22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EC67-2691-453C-B7C2-2B200E90D91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0"/>
          <a:ext cx="9144000" cy="68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DEF5-9B00-4379-A446-62A72FFB94D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What is S+FinMetrics™?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PLUS module with 500+ functions for the econometric modeling and prediction of economic and financial 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for researchers and practitioners in the finance industry, academic researchers in economics and finance, and advanced MBA and graduate students in economics and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es the power of S-PLUS for modeling univariate and multivariate time serie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24C2E-4C5D-4E33-A22F-49D826ABC3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-PLUS / S+FinMetrics™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60360" y="1789200"/>
            <a:ext cx="25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mple Descriptive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03480" y="498960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dvanced Modeling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1838160"/>
            <a:ext cx="441972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Smoothing &amp; Filt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ACF &amp; PA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Spectral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Aggregation and Seasonal Adju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Technical Analysis &amp;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Fixed Income Analy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ARIMA with Regressors and Long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Times New Roman"/>
              </a:rPr>
              <a:t>Dynamic Time Series Regression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Tests for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Unit Roots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, Cointegration,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Nonline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Extreme Value Distributions and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Cop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Simulate Solutions to S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Nonlinear regime switching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and neur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General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Times New Roman"/>
              </a:rPr>
              <a:t>Rolling Estimation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Arial"/>
              </a:rPr>
              <a:t>Seemingly Unrelated Reg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Times New Roman"/>
              </a:rPr>
              <a:t>Vector Autoregression and Co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GARCH – Univariate and Multiva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State Space Models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and Kalman Filter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Arial"/>
              </a:rPr>
              <a:t>Statistical Factor Models for Large Portfol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  <a:ea typeface="Arial"/>
              </a:rPr>
              <a:t>Method of Moments Estimation – GMM &amp; 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3178080"/>
            <a:ext cx="685800" cy="1714680"/>
          </a:xfrm>
          <a:prstGeom prst="downArrow">
            <a:avLst>
              <a:gd name="adj1" fmla="val 50000"/>
              <a:gd name="adj2" fmla="val 6250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3CA3-9FAD-402B-B1A4-28779114BA1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Documentation for S+FinMetrics™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06360" y="1981080"/>
            <a:ext cx="2768760" cy="41911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hapter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7 Condensed"/>
              </a:rPr>
              <a:t>Copulas</a:t>
            </a: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7 Condensed"/>
              </a:rPr>
              <a:t>Nonlinear Models</a:t>
            </a: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7 Condensed"/>
              </a:rPr>
              <a:t>Continuous-Time Models</a:t>
            </a: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7 Condensed"/>
              </a:rPr>
              <a:t>Generalized Method of Moments</a:t>
            </a: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7 Condensed"/>
              </a:rPr>
              <a:t>Semi-nonparametric Conditional Density Models</a:t>
            </a: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7 Condensed"/>
              </a:rPr>
              <a:t>Efficient Method of Moments</a:t>
            </a: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5DC5-ED3C-49C8-882A-229C0A1BD7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21:15:43Z</dcterms:created>
  <dc:creator>David Smith</dc:creator>
  <dc:description/>
  <dc:language>en-US</dc:language>
  <cp:lastModifiedBy>Kim Kelly</cp:lastModifiedBy>
  <dcterms:modified xsi:type="dcterms:W3CDTF">2005-05-17T14:25:09Z</dcterms:modified>
  <cp:revision>119</cp:revision>
  <dc:subject/>
  <dc:title>PowerPoint Presentation</dc:title>
</cp:coreProperties>
</file>